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8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27.wmf" ContentType="image/x-wmf"/>
  <Override PartName="/ppt/media/image16.jpeg" ContentType="image/jpeg"/>
  <Override PartName="/ppt/media/image25.wmf" ContentType="image/x-wmf"/>
  <Override PartName="/ppt/media/image24.png" ContentType="image/png"/>
  <Override PartName="/ppt/media/image23.wmf" ContentType="image/x-wmf"/>
  <Override PartName="/ppt/media/image21.jpeg" ContentType="image/jpeg"/>
  <Override PartName="/ppt/media/image22.png" ContentType="image/png"/>
  <Override PartName="/ppt/media/image20.jpeg" ContentType="image/jpeg"/>
  <Override PartName="/ppt/media/image19.wmf" ContentType="image/x-wmf"/>
  <Override PartName="/ppt/media/image18.wmf" ContentType="image/x-wmf"/>
  <Override PartName="/ppt/media/image17.png" ContentType="image/png"/>
  <Override PartName="/ppt/media/image15.jpeg" ContentType="image/jpeg"/>
  <Override PartName="/ppt/media/image26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19F4-BC2D-43CB-A583-BFD758741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F42A-4610-4379-84C2-1EEAE314D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D4E3-4555-4B9E-A139-A3C9EA532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D1ED-FDE3-490F-ACAB-451934AE7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05879-9431-4998-B8E4-60DE13183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654CB-2A4D-49DC-B312-2255AA29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6DC2-149D-4B7F-A857-DF829713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1B728-B61C-4B8D-8976-B9A96F205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EBFCB-983E-4DE4-B0A1-80872B67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7C634-D0A5-48B2-814D-894EC24D2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93C9F-05FD-4A6E-BC74-0F0B275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0CA-F211-4A0F-B51C-02CCD7C9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47F0-425C-43AC-A35E-E2E50B9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F07E-3144-46E6-9423-B66256B6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49EF5-D8F6-44E5-8742-6EB29E88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C6237-6EBC-4DFB-B193-A7F9E9FFE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9A71-E458-4265-88C9-11DF35F8B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260EF-CCC2-43DC-97B9-5AD4F8E6C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B45F7-B9B2-41CA-97A4-BD654C11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1D97DD-2367-4457-A274-8B52FF140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57046-7C4D-479C-8086-370A505E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62E04-B2C7-47CE-A311-DAE9B05D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D3E6-50E1-430B-A2C2-535E9CD4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1AE24-4A7E-4972-BFDC-762A6D0FD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14A266-6E9A-4C74-AC67-58531E20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F25B0-8CE2-4093-9615-6A4B240F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718C0-7466-4240-B854-9B613E15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2434E-DC82-4130-932C-B36E4B4F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C66CE-35D9-46EC-B04A-0610B6F2A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7DA6D0-D1B0-4667-8B46-500D9A870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5EDA67-A015-41D8-8A7B-C38EB222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B63D76-095E-4E45-9B95-5AECD7688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53905AA-AA44-45AB-9DC8-B53EEA69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7693-9731-43D9-8519-9ECFF50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BC930-A939-423C-A510-1ED044344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A84F80-3F7C-44A6-B21B-D26817DA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A4C69B-F2CC-49F3-A6FB-B046E398C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D328C9-BC8C-4C69-9026-867AC7BE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910EB6-9273-483B-BF00-CA8E9617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FFCB13-39F4-4B2E-B8D9-8FE9E25BB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73BCDA-8ECA-473A-877D-2BEC71A5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BF4D38-5F20-4A31-A99D-FED2DB1D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00C907-8753-48C6-AC6B-C59CFE5D7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6F5-28B5-4FCA-95D2-8CBEC79F1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BFFB-D515-4C90-9F2A-0410E0421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8E16-E335-4F0A-812A-8FBAC344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03AB-208C-4777-9351-CAFA3FB10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7956-BA92-47F7-A751-A290BA2D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68817-CB68-4453-918C-62C1F706E37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F775-C5D8-4866-8610-83476376A460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322D-C8EB-4FBC-B5C7-654BB9DE31A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1D70D-B778-4570-9F41-4F3CFA3104F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13932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Прямоугольник 3"/>
          <p:cNvSpPr/>
          <p:nvPr/>
        </p:nvSpPr>
        <p:spPr>
          <a:xfrm>
            <a:off x="2341440" y="1876320"/>
            <a:ext cx="67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нализ влияния факторов национальной культуры на формирование роли менеджера в орган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"/>
          <p:cNvPicPr/>
          <p:nvPr/>
        </p:nvPicPr>
        <p:blipFill>
          <a:blip r:embed="rId2"/>
          <a:stretch/>
        </p:blipFill>
        <p:spPr>
          <a:xfrm>
            <a:off x="920880" y="4017960"/>
            <a:ext cx="1620720" cy="798480"/>
          </a:xfrm>
          <a:prstGeom prst="rect">
            <a:avLst/>
          </a:prstGeom>
          <a:ln w="0">
            <a:noFill/>
          </a:ln>
        </p:spPr>
      </p:pic>
      <p:sp>
        <p:nvSpPr>
          <p:cNvPr id="203" name="Заголовок 1"/>
          <p:cNvSpPr/>
          <p:nvPr/>
        </p:nvSpPr>
        <p:spPr>
          <a:xfrm>
            <a:off x="5637240" y="3102120"/>
            <a:ext cx="6489720" cy="181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7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Трифонов П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к.э.н., доце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ru-RU" sz="2000" spc="-1" strike="noStrike">
                <a:solidFill>
                  <a:srgbClr val="01181f"/>
                </a:solidFill>
                <a:latin typeface="Times New Roman"/>
              </a:rPr>
              <a:t>Департамент менеджм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Дата 1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B8E20-246D-4349-BFDE-024A7231F3B0}" type="datetime">
              <a:rPr b="0" lang="ru-RU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1"/>
          <p:cNvSpPr/>
          <p:nvPr/>
        </p:nvSpPr>
        <p:spPr>
          <a:xfrm>
            <a:off x="4287960" y="4898880"/>
            <a:ext cx="148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scow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Рисунок 14" descr=""/>
          <p:cNvPicPr/>
          <p:nvPr/>
        </p:nvPicPr>
        <p:blipFill>
          <a:blip r:embed="rId3"/>
          <a:stretch/>
        </p:blipFill>
        <p:spPr>
          <a:xfrm>
            <a:off x="0" y="0"/>
            <a:ext cx="1476360" cy="15447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"/>
          <p:cNvSpPr/>
          <p:nvPr/>
        </p:nvSpPr>
        <p:spPr>
          <a:xfrm>
            <a:off x="3492360" y="1461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Конференции ИУМ-2018 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«Управленческий труд и роли менеджеров: прошлое, настоящее, будущее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2" descr=""/>
          <p:cNvPicPr/>
          <p:nvPr/>
        </p:nvPicPr>
        <p:blipFill>
          <a:blip r:embed="rId1"/>
          <a:srcRect l="0" t="0" r="0" b="75280"/>
          <a:stretch/>
        </p:blipFill>
        <p:spPr>
          <a:xfrm>
            <a:off x="243000" y="2143080"/>
            <a:ext cx="8665920" cy="638280"/>
          </a:xfrm>
          <a:prstGeom prst="rect">
            <a:avLst/>
          </a:prstGeom>
          <a:ln w="0">
            <a:noFill/>
          </a:ln>
        </p:spPr>
      </p:pic>
      <p:sp>
        <p:nvSpPr>
          <p:cNvPr id="257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4" descr="Archive Logo"/>
          <p:cNvPicPr/>
          <p:nvPr/>
        </p:nvPicPr>
        <p:blipFill>
          <a:blip r:embed="rId2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7" descr=""/>
          <p:cNvPicPr/>
          <p:nvPr/>
        </p:nvPicPr>
        <p:blipFill>
          <a:blip r:embed="rId3"/>
          <a:stretch/>
        </p:blipFill>
        <p:spPr>
          <a:xfrm>
            <a:off x="468360" y="2819520"/>
            <a:ext cx="7199280" cy="1427040"/>
          </a:xfrm>
          <a:prstGeom prst="rect">
            <a:avLst/>
          </a:prstGeom>
          <a:ln w="0">
            <a:noFill/>
          </a:ln>
        </p:spPr>
      </p:pic>
      <p:sp>
        <p:nvSpPr>
          <p:cNvPr id="261" name="Прямоугольник 5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6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Рисунок 9" descr=""/>
          <p:cNvPicPr/>
          <p:nvPr/>
        </p:nvPicPr>
        <p:blipFill>
          <a:blip r:embed="rId4"/>
          <a:stretch/>
        </p:blipFill>
        <p:spPr>
          <a:xfrm>
            <a:off x="237960" y="4937040"/>
            <a:ext cx="7801200" cy="1463760"/>
          </a:xfrm>
          <a:prstGeom prst="rect">
            <a:avLst/>
          </a:prstGeom>
          <a:ln w="0">
            <a:noFill/>
          </a:ln>
        </p:spPr>
      </p:pic>
      <p:pic>
        <p:nvPicPr>
          <p:cNvPr id="264" name="Рисунок 10" descr=""/>
          <p:cNvPicPr/>
          <p:nvPr/>
        </p:nvPicPr>
        <p:blipFill>
          <a:blip r:embed="rId5"/>
          <a:srcRect l="0" t="81368" r="0" b="0"/>
          <a:stretch/>
        </p:blipFill>
        <p:spPr>
          <a:xfrm>
            <a:off x="595440" y="4941720"/>
            <a:ext cx="8450280" cy="312840"/>
          </a:xfrm>
          <a:prstGeom prst="rect">
            <a:avLst/>
          </a:prstGeom>
          <a:ln w="0">
            <a:noFill/>
          </a:ln>
        </p:spPr>
      </p:pic>
      <p:pic>
        <p:nvPicPr>
          <p:cNvPr id="265" name="Рисунок 13" descr=""/>
          <p:cNvPicPr/>
          <p:nvPr/>
        </p:nvPicPr>
        <p:blipFill>
          <a:blip r:embed="rId6"/>
          <a:srcRect l="-4060" t="-4150" r="4064" b="78615"/>
          <a:stretch/>
        </p:blipFill>
        <p:spPr>
          <a:xfrm>
            <a:off x="181080" y="4530600"/>
            <a:ext cx="844848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Прямоугольник 4"/>
          <p:cNvSpPr/>
          <p:nvPr/>
        </p:nvSpPr>
        <p:spPr>
          <a:xfrm>
            <a:off x="179280" y="6453360"/>
            <a:ext cx="763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 http://www.worldvaluessurvey.org/WVSDocumentationWV6.js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pic>
        <p:nvPicPr>
          <p:cNvPr id="269" name="Рисунок 5" descr=""/>
          <p:cNvPicPr/>
          <p:nvPr/>
        </p:nvPicPr>
        <p:blipFill>
          <a:blip r:embed="rId2"/>
          <a:stretch/>
        </p:blipFill>
        <p:spPr>
          <a:xfrm>
            <a:off x="179280" y="2708280"/>
            <a:ext cx="8809200" cy="30067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Прямоугольник 3"/>
          <p:cNvSpPr/>
          <p:nvPr/>
        </p:nvSpPr>
        <p:spPr>
          <a:xfrm>
            <a:off x="6732720" y="855720"/>
            <a:ext cx="84484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MT"/>
              </a:rPr>
              <a:t>Russia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4" descr="Archive Logo"/>
          <p:cNvPicPr/>
          <p:nvPr/>
        </p:nvPicPr>
        <p:blipFill>
          <a:blip r:embed="rId1"/>
          <a:stretch/>
        </p:blipFill>
        <p:spPr>
          <a:xfrm>
            <a:off x="237960" y="806400"/>
            <a:ext cx="2248200" cy="132408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7"/>
          <p:cNvSpPr/>
          <p:nvPr/>
        </p:nvSpPr>
        <p:spPr>
          <a:xfrm>
            <a:off x="2771640" y="855720"/>
            <a:ext cx="4572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WV6_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MT"/>
              </a:rPr>
              <a:t>United States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MT"/>
              </a:rPr>
              <a:t>Technical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Narrow-Bold"/>
              </a:rPr>
              <a:t>v.2016.01.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8"/>
          <p:cNvSpPr/>
          <p:nvPr/>
        </p:nvSpPr>
        <p:spPr>
          <a:xfrm>
            <a:off x="5660280" y="128412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"/>
          <p:cNvSpPr/>
          <p:nvPr/>
        </p:nvSpPr>
        <p:spPr>
          <a:xfrm>
            <a:off x="5380920" y="806400"/>
            <a:ext cx="166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</a:rPr>
              <a:t>вы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71280" y="2117880"/>
            <a:ext cx="8964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ля российских базовых ценностей характерна следующая иерарх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 – Ответственность – Терпи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американц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пимость- Трудолюбие-Ответствен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Над установками американцев преобладают следующие российские цен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Ответственность, Бережливость, Решительность, Самовыраже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уш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американцев делается больший акцент 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оображение, терпимость, религиозность, бескорыс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Между представителями разных поколений в России существует разница в роли ценносте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рудолюбие, терпимость, бережливость для старшего поколения наиболее важ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зависимость, решительность, самовыражение для молодого поколения очень ценны. Причем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независимос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ет максимальную раз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55280" y="623736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algn="just">
              <a:buClr>
                <a:srgbClr val="04617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 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– индивидуалисты, выстроить «команду» сложнее, поэтому передача ценностей должна носить персонифицированный характер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   Поколение </a:t>
            </a:r>
            <a:r>
              <a:rPr b="0" i="1" lang="en-US" sz="2400" spc="-1" strike="noStrike">
                <a:solidFill>
                  <a:srgbClr val="04617b"/>
                </a:solidFill>
                <a:latin typeface="Calibri"/>
              </a:rPr>
              <a:t>Z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осознают себя уникальными и склонны к самовыражению, не считают нужным использовать бенчмаркинг, поэтому они более осознанно и прагматично относятся к получению результата («трудоголики»);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Упор на многозадачность, кратковременные задачи в приоритете, но на все случае жизни должна быть четкая инструкция и ненавязчивый контроль;</a:t>
            </a:r>
            <a:br>
              <a:rPr sz="2400"/>
            </a:br>
            <a:br>
              <a:rPr sz="2400"/>
            </a:br>
            <a:r>
              <a:rPr b="0" i="1" lang="ru-RU" sz="24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кценты в процессе «прививания» норм и ценностей корпорации при работе с поколением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94920" y="1699920"/>
            <a:ext cx="8497800" cy="5041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 (2001). Culture's Consequences: comparing values, behaviors, institutions, and organizations across nations (2nd ed.). 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eert; Hofstede, Gert Jan (2005). Cultures and organizations: software of the mind (Revised and expanded 2nd ed.). New York: </a:t>
            </a:r>
            <a:r>
              <a:rPr b="0" i="1" lang="en-US" sz="1600" spc="-1" strike="noStrike" u="sng">
                <a:solidFill>
                  <a:srgbClr val="04617b"/>
                </a:solidFill>
                <a:uFillTx/>
                <a:latin typeface="Calibri"/>
              </a:rPr>
              <a:t>McGraw-Hill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"Culture Does Not Exist—An Interview with Professor Geert Hofstede". Centre for Intercultural Learning. Retrieved 11 April 2011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4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McSweeney, B. (2002a) Hofstede's Identification of National Cultural Differences – A Triumph of Faith a Failure of Analysis, Human Relations, 55.1, 89–118.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5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ofstede, G. (2002) Dimensions Do Not Exist: A Reply to Brendan McSweeney, Human Relations, 55, November, pp. 1355-1361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worldvaluessurvey.org/wvs.js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s://geerthofstede.com/landing-page/hofstede_dimensions.php</a:t>
            </a:r>
            <a:br>
              <a:rPr sz="1600"/>
            </a:br>
            <a:br>
              <a:rPr sz="1600"/>
            </a:br>
            <a:r>
              <a:rPr b="0" i="1" lang="ru-RU" sz="1600" spc="-1" strike="noStrike">
                <a:solidFill>
                  <a:srgbClr val="04617b"/>
                </a:solidFill>
                <a:latin typeface="Calibri"/>
              </a:rPr>
              <a:t>8. </a:t>
            </a:r>
            <a:r>
              <a:rPr b="0" i="1" lang="en-US" sz="1600" spc="-1" strike="noStrike">
                <a:solidFill>
                  <a:srgbClr val="04617b"/>
                </a:solidFill>
                <a:latin typeface="Calibri"/>
              </a:rPr>
              <a:t>http://www.lifecourse.com/assets/files/reports/CI_The_Millennial_Generation_04_2015.pdf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Заголовок 4"/>
          <p:cNvSpPr/>
          <p:nvPr/>
        </p:nvSpPr>
        <p:spPr>
          <a:xfrm>
            <a:off x="1055520" y="119700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писок использованных источни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76000" y="528120"/>
            <a:ext cx="7010280" cy="955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Смена парадигмы управления</a:t>
            </a:r>
            <a:br>
              <a:rPr sz="2500"/>
            </a:br>
            <a:r>
              <a:rPr b="1" lang="ru-RU" sz="2500" spc="-1" strike="noStrike">
                <a:solidFill>
                  <a:srgbClr val="04617b"/>
                </a:solidFill>
                <a:latin typeface="Verdana"/>
              </a:rPr>
              <a:t>в конце ХХ века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88680" y="1701360"/>
            <a:ext cx="626436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Трансформация роли руководителя в системе управления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971640" y="3284640"/>
          <a:ext cx="3429000" cy="2147760"/>
        </p:xfrm>
        <a:graphic>
          <a:graphicData uri="http://schemas.openxmlformats.org/drawingml/2006/table">
            <a:tbl>
              <a:tblPr/>
              <a:tblGrid>
                <a:gridCol w="3429000"/>
              </a:tblGrid>
              <a:tr h="686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Устаревшее понимание роли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0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Жесткое управ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Обезличенные процед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Административные методы воздейств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Экспе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1" name=""/>
          <p:cNvGraphicFramePr/>
          <p:nvPr/>
        </p:nvGraphicFramePr>
        <p:xfrm>
          <a:off x="5003640" y="2781360"/>
          <a:ext cx="3816360" cy="3378240"/>
        </p:xfrm>
        <a:graphic>
          <a:graphicData uri="http://schemas.openxmlformats.org/drawingml/2006/table">
            <a:tbl>
              <a:tblPr/>
              <a:tblGrid>
                <a:gridCol w="3816360"/>
              </a:tblGrid>
              <a:tr h="6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21b2c9"/>
                          </a:solidFill>
                          <a:latin typeface="Verdana"/>
                        </a:rPr>
                        <a:t>Современная роль руководител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2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Гибкая система управления ресурс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Использование всех ресурсов конкурентоспособности на рын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Понимание специфики каждого ресурс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4617b"/>
                          </a:solidFill>
                          <a:latin typeface="Verdana"/>
                        </a:rPr>
                        <a:t>Харизмат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f6fc6"/>
                        </a:buClr>
                        <a:buSzPct val="8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2" name="Рисунок 5" descr=""/>
          <p:cNvPicPr/>
          <p:nvPr/>
        </p:nvPicPr>
        <p:blipFill>
          <a:blip r:embed="rId1"/>
          <a:srcRect l="0" t="23842" r="0" b="54955"/>
          <a:stretch/>
        </p:blipFill>
        <p:spPr>
          <a:xfrm>
            <a:off x="7075440" y="28440"/>
            <a:ext cx="205596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2560" y="4869000"/>
            <a:ext cx="7885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Смена парадигмы управления организации в виду смену технологического уклада жизни общества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Появление новых ИКТ (информационно-коммуникационных технологий) «Цифровая экономика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Усиление контактов с международным сообществом (глобализация социально-культурной среды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«Феминизация» общества и «мультикультурализм» в политике (уход от патриархальных устоев)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Новые требования к лидерству/власти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6. Смена социокультурных установок общества</a:t>
            </a: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Заголовок 4"/>
          <p:cNvSpPr/>
          <p:nvPr/>
        </p:nvSpPr>
        <p:spPr>
          <a:xfrm>
            <a:off x="557280" y="836640"/>
            <a:ext cx="8856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Факторы влияния на выбор модели социальной ответственности в</a:t>
            </a:r>
            <a:r>
              <a:rPr b="0" lang="en-US" sz="3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организации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Смена поколени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2" descr="https://im0-tub-ru.yandex.net/i?id=8e694d498c67faa56ebfc3e1e3f3c563&amp;n=11"/>
          <p:cNvPicPr/>
          <p:nvPr/>
        </p:nvPicPr>
        <p:blipFill>
          <a:blip r:embed="rId1"/>
          <a:srcRect l="0" t="0" r="31973" b="0"/>
          <a:stretch/>
        </p:blipFill>
        <p:spPr>
          <a:xfrm>
            <a:off x="324000" y="2205000"/>
            <a:ext cx="1295280" cy="9525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http://bigpo.ru/potra/%D0%97%D0%B0%D0%B4%D0%B0%D1%87%D0%B8%3A+%D1%84%D0%BE%D1%80%D0%BC%D0%B8%D1%80%D0%BE%D0%B2%D0%B0%D1%82%D1%8C+%D1%85%D1%80%D0%BE%D0%BD%D0%BE%D0%BB%D0%BE%D0%B3%D0%B8%D1%87%D0%B5%D1%81%D0%BA%D0%B8%D0%B5+%D1%83%D0%BC%D0%B5%D0%BD%D0%B8%D1%8F%2C+%D1%80%D0%B0%D0%B7%D0%B2%D0%B8%D0%B2%D0%B0%D1%82%D1%8C+%D1%83%D0%BC%D0%B5%D0%BD%D0%B8%D0%B5+%D1%80%D0%B0%D0%B1%D0%BE%D1%82%D0%B0%D1%82%D1%8C+%D1%81+%D0%BA%D0%B0%D1%80%D1%82%D0%BE%D0%B9%3B+%D1%84%D0%BE%D1%80%D0%BC%D0%B8%D1%80%D0%BE%D0%B2%D0%B0%D1%82%D1%8C+%D1%83%D0%B2%D0%B0%D0%B6%D0%B5%D0%BD%D0%B8%D0%B5+%D0%BA+%D0%BB%D1%8E%D0%B4%D1%8F%D0%BC%2C+%D1%81%D0%BE%D0%B2%D0%B5%D1%80%D1%88%D0%B8%D0%B2%D1%88%D0%B8%D0%BC+%D0%B2%D0%B5%D0%BB%D0%B8%D0%BA%D0%B8%D0%B9+%D0%BF%D0%BE%D0%B4%D0%B2%D0%B8%D0%B3+%D0%B2+%D0%B3%D0%BE%D0%B4%D1%8B+%D0%92%D0%9E%D0%92.+%D0%9E%D0%B1%D0%BE%D1%80%D1%83%D0%B4%D0%BE%D0%B2%D0%B0%D0%BD%D0%B8%D0%B5a/476209_html_5c2a932d.png"/>
          <p:cNvPicPr/>
          <p:nvPr/>
        </p:nvPicPr>
        <p:blipFill>
          <a:blip r:embed="rId2"/>
          <a:srcRect l="17863" t="0" r="0" b="5266"/>
          <a:stretch/>
        </p:blipFill>
        <p:spPr>
          <a:xfrm>
            <a:off x="250920" y="4797360"/>
            <a:ext cx="5792760" cy="1295640"/>
          </a:xfrm>
          <a:prstGeom prst="rect">
            <a:avLst/>
          </a:prstGeom>
          <a:ln w="0">
            <a:noFill/>
          </a:ln>
        </p:spPr>
      </p:pic>
      <p:sp>
        <p:nvSpPr>
          <p:cNvPr id="218" name="Заголовок 4"/>
          <p:cNvSpPr/>
          <p:nvPr/>
        </p:nvSpPr>
        <p:spPr>
          <a:xfrm>
            <a:off x="324000" y="3213000"/>
            <a:ext cx="1295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терянное поколени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https://im2-tub-ru.yandex.net/i?id=c2b62fdb9dd156af0eea33967fc32855&amp;n=11"/>
          <p:cNvPicPr/>
          <p:nvPr/>
        </p:nvPicPr>
        <p:blipFill>
          <a:blip r:embed="rId3"/>
          <a:srcRect l="0" t="0" r="39531" b="0"/>
          <a:stretch/>
        </p:blipFill>
        <p:spPr>
          <a:xfrm>
            <a:off x="1692360" y="2205000"/>
            <a:ext cx="1150920" cy="952560"/>
          </a:xfrm>
          <a:prstGeom prst="rect">
            <a:avLst/>
          </a:prstGeom>
          <a:ln w="0">
            <a:noFill/>
          </a:ln>
        </p:spPr>
      </p:pic>
      <p:sp>
        <p:nvSpPr>
          <p:cNvPr id="220" name="Заголовок 4"/>
          <p:cNvSpPr/>
          <p:nvPr/>
        </p:nvSpPr>
        <p:spPr>
          <a:xfrm>
            <a:off x="4356000" y="3284640"/>
            <a:ext cx="187164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1" lang="ru-RU" sz="1500" spc="-1" strike="noStrike">
                <a:solidFill>
                  <a:srgbClr val="04617b"/>
                </a:solidFill>
                <a:latin typeface="Calibri"/>
              </a:rPr>
              <a:t>Пепс</a:t>
            </a: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и (2е потерянное поколение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8" descr="https://im2-tub-ru.yandex.net/i?id=7a49c85683631bc52ac52cc9a6608337&amp;n=11"/>
          <p:cNvPicPr/>
          <p:nvPr/>
        </p:nvPicPr>
        <p:blipFill>
          <a:blip r:embed="rId4"/>
          <a:srcRect l="0" t="0" r="31973" b="0"/>
          <a:stretch/>
        </p:blipFill>
        <p:spPr>
          <a:xfrm>
            <a:off x="2987640" y="2205000"/>
            <a:ext cx="1297080" cy="952560"/>
          </a:xfrm>
          <a:prstGeom prst="rect">
            <a:avLst/>
          </a:prstGeom>
          <a:ln w="0">
            <a:noFill/>
          </a:ln>
        </p:spPr>
      </p:pic>
      <p:sp>
        <p:nvSpPr>
          <p:cNvPr id="222" name="Заголовок 4"/>
          <p:cNvSpPr/>
          <p:nvPr/>
        </p:nvSpPr>
        <p:spPr>
          <a:xfrm>
            <a:off x="2987640" y="3213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0" descr="https://im3-tub-ru.yandex.net/i?id=13bd13b1da287dbd2ce01c28b9af4526&amp;n=11"/>
          <p:cNvPicPr/>
          <p:nvPr/>
        </p:nvPicPr>
        <p:blipFill>
          <a:blip r:embed="rId5"/>
          <a:stretch/>
        </p:blipFill>
        <p:spPr>
          <a:xfrm>
            <a:off x="4356000" y="2189160"/>
            <a:ext cx="1905120" cy="952560"/>
          </a:xfrm>
          <a:prstGeom prst="rect">
            <a:avLst/>
          </a:prstGeom>
          <a:ln w="0">
            <a:noFill/>
          </a:ln>
        </p:spPr>
      </p:pic>
      <p:sp>
        <p:nvSpPr>
          <p:cNvPr id="224" name="Заголовок 4"/>
          <p:cNvSpPr/>
          <p:nvPr/>
        </p:nvSpPr>
        <p:spPr>
          <a:xfrm>
            <a:off x="1547640" y="3213000"/>
            <a:ext cx="15116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Бэбибумер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2" descr="http://arhivach.org/storage/2/84/284eac93c5d400a72303cf52137e2d0b.jpg"/>
          <p:cNvPicPr/>
          <p:nvPr/>
        </p:nvPicPr>
        <p:blipFill>
          <a:blip r:embed="rId6"/>
          <a:srcRect l="7577" t="9090" r="6060" b="9090"/>
          <a:stretch/>
        </p:blipFill>
        <p:spPr>
          <a:xfrm>
            <a:off x="4859280" y="4797360"/>
            <a:ext cx="4105440" cy="12956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4" descr="http://www.estrategiadigital.pt/wp-content/uploads/2013/07/gen-y.jpg"/>
          <p:cNvPicPr/>
          <p:nvPr/>
        </p:nvPicPr>
        <p:blipFill>
          <a:blip r:embed="rId7"/>
          <a:srcRect l="28476" t="0" r="28832" b="0"/>
          <a:stretch/>
        </p:blipFill>
        <p:spPr>
          <a:xfrm>
            <a:off x="6300720" y="2133720"/>
            <a:ext cx="1079640" cy="12254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6" descr="http://internetua.com/upload/tinymce/images/03052013/ScreenClip7%D1%83%D1%83%D1%83%D1%86%D0%B08.png"/>
          <p:cNvPicPr/>
          <p:nvPr/>
        </p:nvPicPr>
        <p:blipFill>
          <a:blip r:embed="rId8"/>
          <a:stretch/>
        </p:blipFill>
        <p:spPr>
          <a:xfrm>
            <a:off x="7459560" y="2133720"/>
            <a:ext cx="1684440" cy="1150920"/>
          </a:xfrm>
          <a:prstGeom prst="rect">
            <a:avLst/>
          </a:prstGeom>
          <a:ln w="0">
            <a:noFill/>
          </a:ln>
        </p:spPr>
      </p:pic>
      <p:sp>
        <p:nvSpPr>
          <p:cNvPr id="228" name="Заголовок 4"/>
          <p:cNvSpPr/>
          <p:nvPr/>
        </p:nvSpPr>
        <p:spPr>
          <a:xfrm>
            <a:off x="6227640" y="342900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Заголовок 4"/>
          <p:cNvSpPr/>
          <p:nvPr/>
        </p:nvSpPr>
        <p:spPr>
          <a:xfrm>
            <a:off x="7596360" y="3429000"/>
            <a:ext cx="1368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Поколение </a:t>
            </a:r>
            <a:r>
              <a:rPr b="0" lang="en-US" sz="1500" spc="-1" strike="noStrike">
                <a:solidFill>
                  <a:srgbClr val="04617b"/>
                </a:solidFill>
                <a:latin typeface="Calibri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"/>
          <p:cNvSpPr/>
          <p:nvPr/>
        </p:nvSpPr>
        <p:spPr>
          <a:xfrm>
            <a:off x="1835280" y="1154880"/>
            <a:ext cx="9144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Теория поколений Н. Хоуви и В. Штрау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4617b"/>
                </a:solidFill>
                <a:latin typeface="Calibri"/>
              </a:rPr>
              <a:t>выявили 4 типа поколений, которые повторяются каждые 80 лет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Рисунок 2" descr=""/>
          <p:cNvPicPr/>
          <p:nvPr/>
        </p:nvPicPr>
        <p:blipFill>
          <a:blip r:embed="rId1"/>
          <a:stretch/>
        </p:blipFill>
        <p:spPr>
          <a:xfrm>
            <a:off x="611280" y="1989000"/>
            <a:ext cx="775656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Заголовок 4"/>
          <p:cNvSpPr/>
          <p:nvPr/>
        </p:nvSpPr>
        <p:spPr>
          <a:xfrm>
            <a:off x="1692360" y="549360"/>
            <a:ext cx="7010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alibri"/>
              </a:rPr>
              <a:t>Статистика опросов студентов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4"/>
          <p:cNvSpPr/>
          <p:nvPr/>
        </p:nvSpPr>
        <p:spPr>
          <a:xfrm>
            <a:off x="2226600" y="5307120"/>
            <a:ext cx="501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ультурные характеристики (по Г. Хофстед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Рисунок 2" descr=""/>
          <p:cNvPicPr/>
          <p:nvPr/>
        </p:nvPicPr>
        <p:blipFill>
          <a:blip r:embed="rId1"/>
          <a:stretch/>
        </p:blipFill>
        <p:spPr>
          <a:xfrm>
            <a:off x="806400" y="2060640"/>
            <a:ext cx="785988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1996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38" name="Группа 1"/>
          <p:cNvGrpSpPr/>
          <p:nvPr/>
        </p:nvGrpSpPr>
        <p:grpSpPr>
          <a:xfrm>
            <a:off x="1835280" y="1196640"/>
            <a:ext cx="6262200" cy="5661360"/>
            <a:chOff x="1835280" y="1196640"/>
            <a:chExt cx="6262200" cy="5661360"/>
          </a:xfrm>
        </p:grpSpPr>
        <p:pic>
          <p:nvPicPr>
            <p:cNvPr id="239" name="Picture 2" descr="http://www.worldvaluessurvey.org/images/Cultural_map_WVS4_1996.jpg"/>
            <p:cNvPicPr/>
            <p:nvPr/>
          </p:nvPicPr>
          <p:blipFill>
            <a:blip r:embed="rId1"/>
            <a:stretch/>
          </p:blipFill>
          <p:spPr>
            <a:xfrm>
              <a:off x="1835280" y="1928880"/>
              <a:ext cx="4971960" cy="4929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0" name="Прямая со стрелкой 5"/>
            <p:cNvCxnSpPr/>
            <p:nvPr/>
          </p:nvCxnSpPr>
          <p:spPr>
            <a:xfrm>
              <a:off x="2340000" y="1196640"/>
              <a:ext cx="28800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1" name="Прямая со стрелкой 7"/>
            <p:cNvCxnSpPr/>
            <p:nvPr/>
          </p:nvCxnSpPr>
          <p:spPr>
            <a:xfrm flipH="1">
              <a:off x="3872880" y="1628280"/>
              <a:ext cx="562680" cy="12387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2" name="Прямая со стрелкой 8"/>
            <p:cNvCxnSpPr/>
            <p:nvPr/>
          </p:nvCxnSpPr>
          <p:spPr>
            <a:xfrm flipH="1">
              <a:off x="6155640" y="4508280"/>
              <a:ext cx="1942200" cy="14472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55640" y="44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08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44" name="Группа 1"/>
          <p:cNvGrpSpPr/>
          <p:nvPr/>
        </p:nvGrpSpPr>
        <p:grpSpPr>
          <a:xfrm>
            <a:off x="1403280" y="1483920"/>
            <a:ext cx="6697800" cy="5383440"/>
            <a:chOff x="1403280" y="1483920"/>
            <a:chExt cx="6697800" cy="5383440"/>
          </a:xfrm>
        </p:grpSpPr>
        <p:pic>
          <p:nvPicPr>
            <p:cNvPr id="245" name="Picture 2" descr="http://www.worldvaluessurvey.org/images/Cultural_map_WVS5_2008.jpg"/>
            <p:cNvPicPr/>
            <p:nvPr/>
          </p:nvPicPr>
          <p:blipFill>
            <a:blip r:embed="rId1"/>
            <a:srcRect l="0" t="6480" r="17933" b="0"/>
            <a:stretch/>
          </p:blipFill>
          <p:spPr>
            <a:xfrm>
              <a:off x="1403280" y="1601640"/>
              <a:ext cx="5713560" cy="52657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46" name="Прямая со стрелкой 3"/>
            <p:cNvCxnSpPr/>
            <p:nvPr/>
          </p:nvCxnSpPr>
          <p:spPr>
            <a:xfrm>
              <a:off x="2469960" y="1601280"/>
              <a:ext cx="289440" cy="18104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47" name="Прямая со стрелкой 4"/>
            <p:cNvCxnSpPr/>
            <p:nvPr/>
          </p:nvCxnSpPr>
          <p:spPr>
            <a:xfrm flipH="1">
              <a:off x="3131280" y="1483920"/>
              <a:ext cx="361080" cy="1641960"/>
            </a:xfrm>
            <a:prstGeom prst="straightConnector1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248" name="Прямая со стрелкой 5"/>
            <p:cNvCxnSpPr/>
            <p:nvPr/>
          </p:nvCxnSpPr>
          <p:spPr>
            <a:xfrm flipH="1">
              <a:off x="5940360" y="4868640"/>
              <a:ext cx="2161080" cy="73440"/>
            </a:xfrm>
            <a:prstGeom prst="straightConnector1">
              <a:avLst/>
            </a:prstGeom>
            <a:ln w="28440">
              <a:solidFill>
                <a:srgbClr val="009dd9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Всемирный обзор ценностей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2017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250" name="Группа 2"/>
          <p:cNvGrpSpPr/>
          <p:nvPr/>
        </p:nvGrpSpPr>
        <p:grpSpPr>
          <a:xfrm>
            <a:off x="1562040" y="1907640"/>
            <a:ext cx="6248160" cy="4806000"/>
            <a:chOff x="1562040" y="1907640"/>
            <a:chExt cx="6248160" cy="4806000"/>
          </a:xfrm>
        </p:grpSpPr>
        <p:pic>
          <p:nvPicPr>
            <p:cNvPr id="251" name="Picture 2" descr="https://upload.wikimedia.org/wikipedia/commons/3/3a/Culture_Map_2017.png"/>
            <p:cNvPicPr/>
            <p:nvPr/>
          </p:nvPicPr>
          <p:blipFill>
            <a:blip r:embed="rId1"/>
            <a:stretch/>
          </p:blipFill>
          <p:spPr>
            <a:xfrm>
              <a:off x="1562040" y="2133360"/>
              <a:ext cx="6019920" cy="4580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52" name="Группа 1"/>
            <p:cNvGrpSpPr/>
            <p:nvPr/>
          </p:nvGrpSpPr>
          <p:grpSpPr>
            <a:xfrm>
              <a:off x="2700360" y="1907640"/>
              <a:ext cx="5109840" cy="2385360"/>
              <a:chOff x="2700360" y="1907640"/>
              <a:chExt cx="5109840" cy="2385360"/>
            </a:xfrm>
          </p:grpSpPr>
          <p:cxnSp>
            <p:nvCxnSpPr>
              <p:cNvPr id="253" name="Прямая со стрелкой 4"/>
              <p:cNvCxnSpPr/>
              <p:nvPr/>
            </p:nvCxnSpPr>
            <p:spPr>
              <a:xfrm>
                <a:off x="2700360" y="1907640"/>
                <a:ext cx="288000" cy="1809000"/>
              </a:xfrm>
              <a:prstGeom prst="straightConnector1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</p:cxnSp>
          <p:cxnSp>
            <p:nvCxnSpPr>
              <p:cNvPr id="254" name="Прямая со стрелкой 6"/>
              <p:cNvCxnSpPr/>
              <p:nvPr/>
            </p:nvCxnSpPr>
            <p:spPr>
              <a:xfrm flipH="1">
                <a:off x="3215520" y="1908000"/>
                <a:ext cx="564120" cy="1237680"/>
              </a:xfrm>
              <a:prstGeom prst="straightConnector1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</p:cxnSp>
          <p:cxnSp>
            <p:nvCxnSpPr>
              <p:cNvPr id="255" name="Прямая со стрелкой 8"/>
              <p:cNvCxnSpPr/>
              <p:nvPr/>
            </p:nvCxnSpPr>
            <p:spPr>
              <a:xfrm flipH="1">
                <a:off x="5866920" y="4150080"/>
                <a:ext cx="1943640" cy="143280"/>
              </a:xfrm>
              <a:prstGeom prst="straightConnector1">
                <a:avLst/>
              </a:prstGeom>
              <a:ln w="28440">
                <a:solidFill>
                  <a:srgbClr val="009dd9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5T09:39:58Z</dcterms:created>
  <dc:creator>Жуков Олег</dc:creator>
  <dc:description/>
  <dc:language>en-US</dc:language>
  <cp:lastModifiedBy>Azel</cp:lastModifiedBy>
  <dcterms:modified xsi:type="dcterms:W3CDTF">2018-09-22T01:20:06Z</dcterms:modified>
  <cp:revision>129</cp:revision>
  <dc:subject/>
  <dc:title>ТЕМА: Ситуационное руководство и обратная связь</dc:title>
</cp:coreProperties>
</file>