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548-CB54-4D96-AF1F-7447FD5C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EDC-76C1-4CF1-AFAD-8A8F0D2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84FB6-A9E6-4458-B957-FFE946D4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AC13-50CD-4808-B83A-BD1EFF4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D55B7-E7D3-4E9F-92DF-3A6BBCD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A720D-9DFB-4332-A317-AA32DCA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38DE-6EE0-44B6-8AF3-31E9CAB8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E89E0-F1CD-44C2-AD8B-C302EC4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CF74E-65B6-47A5-8C69-357A73B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EFC2-3BC4-499C-B31A-875B225E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202A-E143-4D15-8DBF-E2E24A8C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744B3-E3C2-4060-B9F6-4FA1F522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36F-AD10-44CD-98C4-2B1E00A0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CA50-90B1-4BC3-97D8-6F9E2270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BA96C-4120-4635-A7E6-3E2DA5D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55BA2-09CB-4911-A796-921A8FA4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5C353-AE14-4E31-80FE-EC723AA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54653-824A-458F-B489-8751F67F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5F8B6-03F0-4028-8B79-E29CC50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D87D4-ABE3-477D-AE03-4E111CE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98FD-60FD-42ED-A593-7300E56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8A2D7-50CB-48C7-9245-C7D3D69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6C88A-E19D-4D59-86CD-9440EAC7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42F-950F-43C3-A6D0-7135CA1A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A29B9-BBF5-49C6-ACB8-3A8B62B6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3798-357F-46B5-9043-98F43FD3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3EA6C-2B3F-4AF3-8713-6802D27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66CEA-5574-402A-AFC5-4A2299F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27E71-356D-4CD6-8EB8-4DE0EE7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8D13-6724-484E-B5B8-3C7E1F2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93E70-028F-4301-A8D9-22B7AB53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8BA0-EE72-450F-8CD7-FB2D0F9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1E9F7-BA44-4085-A503-63E37DE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751E7-0BFB-4CF9-A25B-A2D9125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0286-F6CE-48AC-BACE-C7FFE67F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FEF9-1C22-4AA4-BBCF-0E56E00A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51874-B96B-4269-B867-A00F1BB3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49419-7E8A-48E8-B692-5CBA0D87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A7904-7EF5-4E15-A817-CF25120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D9973-90EC-48B2-87D0-DE797F4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01DE8-2E2E-4FBC-9850-596E158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AF6FA-5B35-4400-9E1E-60054F7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337EC-BBA9-4144-B854-5CF99AC8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A57EB-6D12-4864-A1C9-9E095AE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192C5-5598-45F2-91DC-70067CF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F935-1BD7-4A80-9DA5-83BC81D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10E37-A734-43C6-9590-3BF69A4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9C768-0157-4D58-8706-AEB5900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9B253-F08B-4E02-BDB9-88D53F6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41F05-C031-4A08-BBB2-A676B27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EF93A-3A7D-4430-A13A-84AEED2C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5AE2E-6675-42E5-8540-01FAE219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2CD1C-ADA9-4933-838F-438C15D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3E8A9-63DA-419F-80D4-D2CD5938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5C84F-FCEF-406B-B29E-9A658A6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1531B-5901-4A64-9EE5-E2967A4F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F9C-63E0-46E9-A8BB-31959BF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4F923-98F6-4465-9327-10486E2C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BC00F-560F-46BF-ACBD-D071038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6EF2C-7EC6-4175-BEB7-4232067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D89DD-C25E-4235-A1A7-D3490C0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944DE-6336-4333-A4B6-DBE43E98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15ACA-CF4C-473D-B119-09F858DB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F1D08-54CD-41DC-9089-04C4385C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3299-1AD0-4A09-9B33-886B451B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9A8-E420-4D43-A135-0C5CA03F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76DD-11CC-44D8-9187-4D2C9B5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61B9-2288-4FD2-AE59-8CEA07A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9B4-8AF6-4128-813D-4C2A57F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C8D3-3880-42CB-B1FD-97CBCA98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0AE-C9DE-480D-A2E2-BBA15E8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037-9222-4F61-B71E-EF13C2D6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DC0-7764-46BD-A784-4E4881B7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3BC-5E8E-42E0-9FD6-C15C853D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2788-EBC6-4696-B7D2-69827E18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DD20-F0E0-45B0-A51E-A2505129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1E20-C8C0-4A32-AE60-E8B6E257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A004-5A54-4D71-9CC3-8596257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876B-B4BC-4DD9-92E1-C9F4422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E9B-2A43-4C45-B8C0-16C16FD0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F1C8-FD7A-4688-A9A4-5B151BE5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87AA-7D7A-43AF-A5D8-6EB26AE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F4CC-D357-427A-A2C8-2985F55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05D1-EED1-4DD1-99CA-A564838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DA8F-C6A9-4A45-97FB-E57E10B9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A4B9-1A77-4832-903A-EAD94BB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B344-6B60-4399-8CA5-6CABA702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356F1-40C6-4F76-AF1B-B07822BB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E551-C7CB-4E01-88D6-470A6624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3977-C304-417E-86C3-31BAECF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75E-4AD3-4063-A603-75C8C7F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F827-36FC-4B5A-B06A-B75F0ED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108B-199E-4E53-8709-5AC4902A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DA9A-3C37-4C8E-B6CB-B380CE3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2E92-E323-4EAF-A440-0757EB4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7C9B-239D-4133-99C0-5008408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1E15-0017-47A2-AD92-A19CDC5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A393-F654-483C-9BF8-A20C7BB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D9E2-DDAB-4DB1-BEA6-12386311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98E5-1522-4BD1-AAF6-41AF0DB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50FE-196E-43A0-97D1-3514FB0D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E8C-4972-4B95-B429-276E2B4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22D5-AC1E-4B91-B4AC-791408F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1A36-E6F9-40BF-B131-4297CDE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FCD72-367E-4F0C-8377-20135E7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477A-796F-41DD-BC29-A8E1A0D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4691-59A3-474F-98D3-5982885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B469-09F6-46E5-8ED1-EB772BB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C6ED-EDFF-4D6F-A960-9DBE54C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8B6B-D756-4900-B4DC-E34C67F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6EBD-2B27-4A66-B8CF-187EE1BB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7DED-6AA8-493E-812F-7FFBA01D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4AA-FBE4-44AE-ACF2-ABFD857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D0D0-5295-4217-96A5-8949B4B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6B52-B1B5-48F0-8A1E-33D47E29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19E6B-E03A-462F-95FC-E6BD68B0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AD76-E3F9-47CF-8AB1-94EC72D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D346-5B49-43DF-AD51-0D50B356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2830-1DBA-4E1C-9B58-1BC55FFD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FCAD-06A6-44E9-8005-98975A7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6E230-102B-4D9F-965C-AC40D21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BF76-2A80-4B92-8D4C-25194EE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37D6-296F-429F-924E-7FCB26D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037-F723-4F96-B4A9-19E1BE5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7540-2918-43C8-AE14-B8EB863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00A0-7F70-4D31-ABC3-C8C13C0F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05F3-C96A-47BB-9CC8-FBFB3B89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E400-95BD-4AC4-85DB-C058AE2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6132-E166-43F2-9A6C-E2AA14F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B5C4-CB57-4322-9284-179BD5F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3FE67-8267-4C46-BA9C-0FB4B919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77890-EDD9-4BFA-B572-40B6B1D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AC0A-A701-4B5A-8635-8603A39A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5DB2-02B8-413E-8AD8-B617ED8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A9D-B93C-44F8-8DAC-352DC6A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3A151-B241-40A7-B0ED-008C36A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DD82-D002-44FD-9687-8FFB84F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F02C-3828-4B20-80D7-2826D26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3C7EA-7E4E-45DC-8C60-7293CEDE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1D06-167C-4BA0-9015-7CB924B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27405-E089-4BC2-A6CC-475C2E6A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BBBB-050D-4487-841A-7EE3237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FD53-4254-4C02-A6FC-702ACD3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7E5E-61EA-41C1-8EA7-AB3C076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CC9F7-E75B-4217-83D8-F171424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7F8-E427-411B-A223-1916FBC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C819-9426-4C33-BC63-780FFC8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A73A-80C4-4F8E-9137-32CA5F0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64097-A3F1-41AB-99A4-8C4D6D8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434A9-7184-4BF9-9A35-7FDEEEA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3A83-7566-440F-816B-56CFE971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500A-C093-41AD-820B-06DA4A13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DABC-CBD8-48DC-BDDA-8AB3A79C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1888-CCBE-44CB-A89E-C112D599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336ED-C00D-485D-90E6-F291290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A1F7D-5544-420A-A1DC-7FA5A5F4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6FD74-96A4-43E4-A396-A941D1BC77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345A3-CADA-4DF8-8C73-2E92641DC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51117-C055-4B53-AF58-311DD5743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205B7-8A07-4718-8802-4C1D6F58F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EFD7D-E4BB-474F-A6D4-D99F64C56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157F5-4207-4DAB-AD39-BB843259A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FD785-3C25-4004-8132-DC6D3179C4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19C08-2DDA-4EA2-943C-FCFCAF8D9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8CFC4-840C-4D47-9323-FBD21C478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DAD0F-CE92-4941-AC16-221CBE6D2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4C01A-7818-40B1-8622-17DE16E33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001B5-099A-4EDF-A804-E791D0299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649E3-293C-478C-86B5-7E3B92F88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8B09C-63A7-4931-A3EA-834C1D390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572CA-BDDD-46AB-A60B-4F88E1410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BCB11-6086-490D-8A73-7B2B599C7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7F16C-109E-4E70-BA34-B2B5FCE854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A1536-78F5-407F-81E3-4C5228A1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E750B-4F5E-47E5-8623-DDDE97B76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26589-DE3C-44FF-8867-6158BED14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299BA-6C7C-4747-B40F-922B27082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DD812-655E-4C0A-AB35-F90B7161B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F7D6E-31CD-472D-A305-B42B319F0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141B2-23C3-4C1E-8D1C-37589F492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1B249-3C9C-4509-BD89-3A41788D57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86F68-BE4C-4B96-94D8-65DAC83AB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avelyonok@hse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МЕЖДУНАРОДНАЯ КОНФЕРЕНЦИЯ по ИСТОРИИ УПРАВЛЕНЧЕСКОЙ МЫСЛИ И БИЗНЕСА , Москва, 21.09.2018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ubtitle 2"/>
          <p:cNvSpPr/>
          <p:nvPr/>
        </p:nvSpPr>
        <p:spPr>
          <a:xfrm>
            <a:off x="614520" y="2954160"/>
            <a:ext cx="791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 Semibold"/>
              </a:rPr>
              <a:t>Какой менеджмент нам нуж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ubtitle 2"/>
          <p:cNvSpPr/>
          <p:nvPr/>
        </p:nvSpPr>
        <p:spPr>
          <a:xfrm>
            <a:off x="766800" y="4587840"/>
            <a:ext cx="791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к.э.н., доцент Института образования НИУ ВШ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Е.А.Савелё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hse.ru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614520" y="2727360"/>
            <a:ext cx="8035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СПАСИБ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м.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903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) 134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-8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Myriad Pro"/>
                <a:hlinkClick r:id="rId2"/>
              </a:rPr>
              <a:t>esavelyonok@hse.ru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Subtitle 2"/>
          <p:cNvGrpSpPr/>
          <p:nvPr/>
        </p:nvGrpSpPr>
        <p:grpSpPr>
          <a:xfrm>
            <a:off x="255600" y="2133720"/>
            <a:ext cx="8791560" cy="2614320"/>
            <a:chOff x="255600" y="2133720"/>
            <a:chExt cx="8791560" cy="2614320"/>
          </a:xfrm>
        </p:grpSpPr>
        <p:pic>
          <p:nvPicPr>
            <p:cNvPr id="53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90120" cy="26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55600" y="2133720"/>
              <a:ext cx="87915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Не тот мне знаток в корабле, кто перечел и перемерял каюты и веревки, но кто познал силу и природу корабля: тот, разумея компас, разумеет путь его и все око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ригорий Сков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Россией управлять совсем не сложно, но совершенно бесполезно [бессмысленно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лександр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I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9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У каждого из нас есть только одно истинное призвание – найти путь к самому се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ерман Ге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55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Я 30 лет изучаю менеджмент, а ты меня тут учишь жизни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(фраза из жизн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61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Человек, рожденный от жены, краткодневен и пресыщен печ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нига И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6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В основе свободы и автономности индивида лежит … простое эмпирическое осознание, непередаваемое ощущение очень личной взаимосвязи человека и внеземной силы, которая действует как противовес «миру» и его «разум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.Г. Юн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7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Любое общее образование, лишенное ориентации на предельные смысловые проблемы, на высшие ценности и смысл бытия — ущерб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.А.Пи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Subtitle 2"/>
          <p:cNvGrpSpPr/>
          <p:nvPr/>
        </p:nvGrpSpPr>
        <p:grpSpPr>
          <a:xfrm>
            <a:off x="628560" y="2712960"/>
            <a:ext cx="8058240" cy="2054160"/>
            <a:chOff x="628560" y="2712960"/>
            <a:chExt cx="8058240" cy="2054160"/>
          </a:xfrm>
        </p:grpSpPr>
        <p:pic>
          <p:nvPicPr>
            <p:cNvPr id="579" name="Subtitle 2" descr=""/>
            <p:cNvPicPr/>
            <p:nvPr/>
          </p:nvPicPr>
          <p:blipFill>
            <a:blip r:embed="rId2"/>
            <a:stretch/>
          </p:blipFill>
          <p:spPr>
            <a:xfrm>
              <a:off x="631440" y="2712960"/>
              <a:ext cx="80550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28560" y="2714760"/>
              <a:ext cx="80582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ТАК КТО ЖЕ МЫ ТАКИЕ, МЕНЕДЖЕРЫ ???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45:29Z</dcterms:created>
  <dc:creator>vkremlev</dc:creator>
  <dc:description/>
  <dc:language>en-US</dc:language>
  <cp:lastModifiedBy>marshev vadim ivanovich</cp:lastModifiedBy>
  <cp:lastPrinted>2016-10-31T15:52:17Z</cp:lastPrinted>
  <dcterms:modified xsi:type="dcterms:W3CDTF">2018-09-21T06:44:53Z</dcterms:modified>
  <cp:revision>455</cp:revision>
  <dc:subject/>
  <dc:title>Slide 1</dc:title>
</cp:coreProperties>
</file>