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9DEB-926A-42E7-8C25-05E9A2CC91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EF23-C01D-4B1F-A5E0-AB68DACCCAD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FBC2-0235-4980-9631-7F4C6A81FED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5E38-5FCB-470A-957F-6E46E704F52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7B27-6C61-488E-B10A-8CE63F7EEF2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9473-3D3C-4F12-8B24-0380964E901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DE28-2BBF-4DD2-97A9-0F5D466EA05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E2C5-2DB8-4CB7-BF13-124EB7E13FC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5129-1E0B-4B00-8D59-DC40C66357A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3EBB-C970-4FC8-A091-F0FDC34072B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739E-9746-4856-B5B6-062A3C054F5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9EC9-7EBE-42B3-B8DB-F30C84623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53FC-AC7F-4C24-9216-512A56BA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2F29-18F8-44B9-B2F4-64195805C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54C6-94EF-40A1-AE6B-BBC3E3616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8BD4-6394-4AE0-8EE7-B7627DD0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4924-265F-4143-8B0F-36962690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04B4-D64D-4B67-A4D2-62463EC0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8191-4D95-45B7-BA19-29D5567E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354D-98C3-44D8-AA51-5EB7D315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D102-0492-4A73-B2B9-B1B4BC8A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817C-2485-437C-8E91-1265A340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B688-8299-4D4E-AAAA-36904BE4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4C5F-EA06-4F5B-97D3-202ED21F9D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89161537372@econ.msu" TargetMode="External"/><Relationship Id="rId3" Type="http://schemas.openxmlformats.org/officeDocument/2006/relationships/hyperlink" Target="mailto:89161537372@econ.msu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1187280" y="1643040"/>
            <a:ext cx="71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ые аспек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и руководител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21"/>
          <p:cNvSpPr/>
          <p:nvPr/>
        </p:nvSpPr>
        <p:spPr>
          <a:xfrm>
            <a:off x="1241280" y="3860640"/>
            <a:ext cx="757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э.н., доцент кафедры экономики труда и персона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ческого факультет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ГУ им. М.В. Ломонос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ильцева Наталья Анатоль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89161537372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@mail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1187280" y="5589720"/>
            <a:ext cx="71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 сентября 2018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компетен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3"/>
          <p:cNvSpPr/>
          <p:nvPr/>
        </p:nvSpPr>
        <p:spPr>
          <a:xfrm>
            <a:off x="324000" y="4491000"/>
            <a:ext cx="849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468360" y="6597720"/>
            <a:ext cx="8345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ашивка 11"/>
          <p:cNvSpPr/>
          <p:nvPr/>
        </p:nvSpPr>
        <p:spPr>
          <a:xfrm>
            <a:off x="3419640" y="1341360"/>
            <a:ext cx="5400360" cy="1511280"/>
          </a:xfrm>
          <a:custGeom>
            <a:avLst/>
            <a:gdLst>
              <a:gd name="textAreaLeft" fmla="*/ 0 w 5400360"/>
              <a:gd name="textAreaRight" fmla="*/ 5400720 w 5400360"/>
              <a:gd name="textAreaTop" fmla="*/ 0 h 1511280"/>
              <a:gd name="textAreaBottom" fmla="*/ 15116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78" y="0"/>
                </a:lnTo>
                <a:lnTo>
                  <a:pt x="21600" y="10800"/>
                </a:lnTo>
                <a:lnTo>
                  <a:pt x="18578" y="21600"/>
                </a:lnTo>
                <a:lnTo>
                  <a:pt x="0" y="21600"/>
                </a:lnTo>
                <a:lnTo>
                  <a:pt x="3022" y="10800"/>
                </a:lnTo>
                <a:close/>
              </a:path>
            </a:pathLst>
          </a:cu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поративные компетенции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необходимые всем сотрудникам компани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ашивка 13"/>
          <p:cNvSpPr/>
          <p:nvPr/>
        </p:nvSpPr>
        <p:spPr>
          <a:xfrm>
            <a:off x="3419640" y="3068640"/>
            <a:ext cx="5400360" cy="1512720"/>
          </a:xfrm>
          <a:custGeom>
            <a:avLst/>
            <a:gdLst>
              <a:gd name="textAreaLeft" fmla="*/ 0 w 5400360"/>
              <a:gd name="textAreaRight" fmla="*/ 5400720 w 5400360"/>
              <a:gd name="textAreaTop" fmla="*/ 0 h 1512720"/>
              <a:gd name="textAreaBottom" fmla="*/ 15130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75" y="0"/>
                </a:lnTo>
                <a:lnTo>
                  <a:pt x="21600" y="10800"/>
                </a:lnTo>
                <a:lnTo>
                  <a:pt x="18575" y="21600"/>
                </a:lnTo>
                <a:lnTo>
                  <a:pt x="0" y="21600"/>
                </a:lnTo>
                <a:lnTo>
                  <a:pt x="3025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неджерские компетенции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необходимые руководителям компании (всем или только определённого уровн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ашивка 14"/>
          <p:cNvSpPr/>
          <p:nvPr/>
        </p:nvSpPr>
        <p:spPr>
          <a:xfrm>
            <a:off x="3419640" y="4797360"/>
            <a:ext cx="5400360" cy="1511280"/>
          </a:xfrm>
          <a:custGeom>
            <a:avLst/>
            <a:gdLst>
              <a:gd name="textAreaLeft" fmla="*/ 0 w 5400360"/>
              <a:gd name="textAreaRight" fmla="*/ 5400720 w 5400360"/>
              <a:gd name="textAreaTop" fmla="*/ 0 h 1511280"/>
              <a:gd name="textAreaBottom" fmla="*/ 15116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78" y="0"/>
                </a:lnTo>
                <a:lnTo>
                  <a:pt x="21600" y="10800"/>
                </a:lnTo>
                <a:lnTo>
                  <a:pt x="18578" y="21600"/>
                </a:lnTo>
                <a:lnTo>
                  <a:pt x="0" y="21600"/>
                </a:lnTo>
                <a:lnTo>
                  <a:pt x="3022" y="10800"/>
                </a:lnTo>
                <a:close/>
              </a:path>
            </a:pathLst>
          </a:custGeom>
          <a:solidFill>
            <a:srgbClr val="5a605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альные (специфические) компетенци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необходимые только какой-то определённой категории сотрудников (например: менеджеры по продажам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Табличка 10"/>
          <p:cNvSpPr/>
          <p:nvPr/>
        </p:nvSpPr>
        <p:spPr>
          <a:xfrm>
            <a:off x="324000" y="2060640"/>
            <a:ext cx="2303280" cy="3816360"/>
          </a:xfrm>
          <a:custGeom>
            <a:avLst/>
            <a:gdLst>
              <a:gd name="textAreaLeft" fmla="*/ 271440 w 2303280"/>
              <a:gd name="textAreaRight" fmla="*/ 2031840 w 2303280"/>
              <a:gd name="textAreaTop" fmla="*/ 271440 h 3816360"/>
              <a:gd name="textAreaBottom" fmla="*/ 3544920 h 3816360"/>
            </a:gdLst>
            <a:ahLst/>
            <a:rect l="textAreaLeft" t="textAreaTop" r="textAreaRight" b="textAreaBottom"/>
            <a:pathLst>
              <a:path w="21600" h="35787">
                <a:moveTo>
                  <a:pt x="3600" y="0"/>
                </a:moveTo>
                <a:arcTo wR="3600" hR="3600" stAng="0" swAng="5400000"/>
                <a:lnTo>
                  <a:pt x="0" y="32187"/>
                </a:lnTo>
                <a:arcTo wR="3600" hR="3600" stAng="16200000" swAng="5400000"/>
                <a:lnTo>
                  <a:pt x="18000" y="35787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дель Компетенций,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писывает качества, необходимые персоналу в данной компании для того, чтобы быть успешны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модели компетен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10"/>
          <p:cNvSpPr/>
          <p:nvPr/>
        </p:nvSpPr>
        <p:spPr>
          <a:xfrm>
            <a:off x="468360" y="6572160"/>
            <a:ext cx="8345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Рисунок 1" descr="Описание: Разработка модели компетенций"/>
          <p:cNvPicPr/>
          <p:nvPr/>
        </p:nvPicPr>
        <p:blipFill>
          <a:blip r:embed="rId2"/>
          <a:stretch/>
        </p:blipFill>
        <p:spPr>
          <a:xfrm>
            <a:off x="142920" y="1127160"/>
            <a:ext cx="883116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0" y="304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ределение требов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бочего места к сотрудни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04920" y="1187280"/>
            <a:ext cx="8534160" cy="509472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. Профессиональн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образова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таж работы общий и по специаль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конкретные навыки и ум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3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наличие официальных документов (лицензия, сертификат и др.)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. Личностны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нешний вид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интеллектуальные качеств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качества характер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пособност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. Биографические и ситуационны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озрас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емейное положе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дданство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есто жительст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ция «Умение работать в команд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130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997E-6DC1-4E2C-839E-94E0056A1DC6}" type="slidenum">
              <a:rPr b="0" lang="ru-RU" sz="1200" spc="-1" strike="noStrike">
                <a:solidFill>
                  <a:srgbClr val="46465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1"/>
          <p:cNvSpPr/>
          <p:nvPr/>
        </p:nvSpPr>
        <p:spPr>
          <a:xfrm>
            <a:off x="900000" y="1281240"/>
            <a:ext cx="7488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собственные идеи по поводу решения задач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являет интерес к точке зрения членов команд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группе достичь результа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ит вклад други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ится к достижению консенсус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возникновения конфликта стремится его разрешать и д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027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меры компетен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1028"/>
          <p:cNvSpPr/>
          <p:nvPr/>
        </p:nvSpPr>
        <p:spPr>
          <a:xfrm>
            <a:off x="304920" y="1197000"/>
            <a:ext cx="8610480" cy="56620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Эффективность в работе с людь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пособность представлять организацию на всех уровня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оброжелательное отношение к подчиненны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умение сотрудничать с другими подразделениями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пособность принимать реш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пособность быстро усваивать новые знания и концепц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пособность широкого взгляда на проблем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пособность выявить ключевые моменты сложной проблемы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Личные каче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гибкость в подходе к проблем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готовность принять ответственност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пособность работать в чрезвычайных обстоятельствах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"/>
          <p:cNvSpPr/>
          <p:nvPr/>
        </p:nvSpPr>
        <p:spPr>
          <a:xfrm>
            <a:off x="83808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ая спецификац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52280" y="123048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4000"/>
          </a:bodyPr>
          <a:p>
            <a:pPr marL="185040" indent="-185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чностная спецификац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, описывающий параметры, которым должен обладать работник для успешного выполнения рабо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040" indent="-185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040" indent="-185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 Роджер в 1930 г. «План семи пунктов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533520" y="2379600"/>
            <a:ext cx="2209680" cy="379692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743200" y="2379600"/>
            <a:ext cx="5638680" cy="37969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уемые каче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762120" y="2836800"/>
            <a:ext cx="739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Line 9"/>
          <p:cNvSpPr/>
          <p:nvPr/>
        </p:nvSpPr>
        <p:spPr>
          <a:xfrm>
            <a:off x="3048120" y="23796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Line 10"/>
          <p:cNvSpPr/>
          <p:nvPr/>
        </p:nvSpPr>
        <p:spPr>
          <a:xfrm>
            <a:off x="762120" y="3218040"/>
            <a:ext cx="739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Line 11"/>
          <p:cNvSpPr/>
          <p:nvPr/>
        </p:nvSpPr>
        <p:spPr>
          <a:xfrm>
            <a:off x="762120" y="3598920"/>
            <a:ext cx="739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4572000" y="28368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Line 14"/>
          <p:cNvSpPr/>
          <p:nvPr/>
        </p:nvSpPr>
        <p:spPr>
          <a:xfrm>
            <a:off x="762120" y="3979800"/>
            <a:ext cx="739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Line 15"/>
          <p:cNvSpPr/>
          <p:nvPr/>
        </p:nvSpPr>
        <p:spPr>
          <a:xfrm>
            <a:off x="762120" y="4361040"/>
            <a:ext cx="739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Line 16"/>
          <p:cNvSpPr/>
          <p:nvPr/>
        </p:nvSpPr>
        <p:spPr>
          <a:xfrm>
            <a:off x="762120" y="4741920"/>
            <a:ext cx="739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Line 17"/>
          <p:cNvSpPr/>
          <p:nvPr/>
        </p:nvSpPr>
        <p:spPr>
          <a:xfrm>
            <a:off x="762120" y="5122800"/>
            <a:ext cx="739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Line 18"/>
          <p:cNvSpPr/>
          <p:nvPr/>
        </p:nvSpPr>
        <p:spPr>
          <a:xfrm>
            <a:off x="762120" y="5504040"/>
            <a:ext cx="739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Line 19"/>
          <p:cNvSpPr/>
          <p:nvPr/>
        </p:nvSpPr>
        <p:spPr>
          <a:xfrm>
            <a:off x="6400800" y="28368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3277080" y="291312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5029920" y="2913120"/>
            <a:ext cx="97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емы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6475320" y="2882880"/>
            <a:ext cx="161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оказ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682920" y="3218040"/>
            <a:ext cx="178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Физический обли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691560" y="3598920"/>
            <a:ext cx="130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остиж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685800" y="3979800"/>
            <a:ext cx="195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бщая понятлив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26"/>
          <p:cNvSpPr/>
          <p:nvPr/>
        </p:nvSpPr>
        <p:spPr>
          <a:xfrm>
            <a:off x="699480" y="4361040"/>
            <a:ext cx="23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пециальные способ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 Box 27"/>
          <p:cNvSpPr/>
          <p:nvPr/>
        </p:nvSpPr>
        <p:spPr>
          <a:xfrm>
            <a:off x="693360" y="4741920"/>
            <a:ext cx="110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Интерес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28"/>
          <p:cNvSpPr/>
          <p:nvPr/>
        </p:nvSpPr>
        <p:spPr>
          <a:xfrm>
            <a:off x="684720" y="5122800"/>
            <a:ext cx="163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Черты характе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 Box 29"/>
          <p:cNvSpPr/>
          <p:nvPr/>
        </p:nvSpPr>
        <p:spPr>
          <a:xfrm>
            <a:off x="685440" y="5580000"/>
            <a:ext cx="171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Внешние услов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"/>
          <p:cNvSpPr/>
          <p:nvPr/>
        </p:nvSpPr>
        <p:spPr>
          <a:xfrm>
            <a:off x="685800" y="45576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ция «Результативность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угольник 2"/>
          <p:cNvSpPr/>
          <p:nvPr/>
        </p:nvSpPr>
        <p:spPr>
          <a:xfrm>
            <a:off x="250920" y="1125360"/>
            <a:ext cx="856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внос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ценка вклада должностного лица в результаты работы структурного подразделения и/или организац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8000" y="1787400"/>
          <a:ext cx="8928000" cy="4743720"/>
        </p:xfrm>
        <a:graphic>
          <a:graphicData uri="http://schemas.openxmlformats.org/drawingml/2006/table">
            <a:tbl>
              <a:tblPr/>
              <a:tblGrid>
                <a:gridCol w="295200"/>
                <a:gridCol w="8042400"/>
                <a:gridCol w="590400"/>
              </a:tblGrid>
              <a:tr h="32076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уров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точное и своевременное достижение требуемых результатов в рамках своих должностных обязанност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точное и своевременное достижение требуемых результатов на взаимосвязанных участках работ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точное и своевременное достижение требуемых результатов нескольких должност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точное и своевременное достижение требуемых результатов бригады, сектор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точное и своевременное достижение требуемых результатов участка, групп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точное и своевременное достижение требуемых результатов цеха, отдел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точное и своевременное достижение требуемых результатов управления, служб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точное и своевременное достижение требуемых результатов департамента, дирекц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точное и своевременное достижение требуемых результатов предприятия, организац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точное и своевременное достижение требуемых результатов предприятия, организац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685800" y="45576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грамма для менеджер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50920" y="1486080"/>
          <a:ext cx="8713800" cy="5157720"/>
        </p:xfrm>
        <a:graphic>
          <a:graphicData uri="http://schemas.openxmlformats.org/drawingml/2006/table">
            <a:tbl>
              <a:tblPr/>
              <a:tblGrid>
                <a:gridCol w="415800"/>
                <a:gridCol w="3395520"/>
                <a:gridCol w="546120"/>
                <a:gridCol w="544680"/>
                <a:gridCol w="544320"/>
                <a:gridCol w="544680"/>
                <a:gridCol w="544680"/>
                <a:gridCol w="544320"/>
                <a:gridCol w="544680"/>
                <a:gridCol w="544320"/>
                <a:gridCol w="544680"/>
              </a:tblGrid>
              <a:tr h="286920">
                <a:tc rowSpan="2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№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Критерии оцен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Плох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Сред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Хорош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А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правленческие кач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Средний бал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692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пень выраженности лиде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92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бходимые знания и навы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ь организовать рабо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92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е довести дело до кон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92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бова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ительность, смелость в принятии реш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92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дование миссии Компа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92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ь к разумному рис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е действовать в нестандартных ситуа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е организовать взаимодействие с другими подразделени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92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пимость к разным точкам зр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ритетность (в т.ч. вне Компани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20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е повести за собой люд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"/>
          <p:cNvSpPr/>
          <p:nvPr/>
        </p:nvSpPr>
        <p:spPr>
          <a:xfrm>
            <a:off x="685800" y="45576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грамма для менеджер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24000" y="1197000"/>
          <a:ext cx="8584920" cy="5361120"/>
        </p:xfrm>
        <a:graphic>
          <a:graphicData uri="http://schemas.openxmlformats.org/drawingml/2006/table">
            <a:tbl>
              <a:tblPr/>
              <a:tblGrid>
                <a:gridCol w="411120"/>
                <a:gridCol w="3346200"/>
                <a:gridCol w="534960"/>
                <a:gridCol w="535320"/>
                <a:gridCol w="537840"/>
                <a:gridCol w="535320"/>
                <a:gridCol w="537840"/>
                <a:gridCol w="538200"/>
                <a:gridCol w="534960"/>
                <a:gridCol w="538200"/>
                <a:gridCol w="5349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Личные кач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Средний 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уп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аведлив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анность Компа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язательность, верность слов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52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ст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ядоч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Интеллектуальные; Эврист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Средний 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ая культура, воспитан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емление к учебе, знан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аторство, инициатива, креатив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емление готовить себе сме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уди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ая грамот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альные кач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Средний 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42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ально - нравственные кач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пут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Психо - физические кач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Средний 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авновешен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оспособность, вынослив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32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ерант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2"/>
          <p:cNvSpPr/>
          <p:nvPr/>
        </p:nvSpPr>
        <p:spPr>
          <a:xfrm>
            <a:off x="685800" y="45576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3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фикационно-поведенческий портр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п-менедже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3" name="Object 5"/>
          <p:cNvGraphicFramePr/>
          <p:nvPr/>
        </p:nvGraphicFramePr>
        <p:xfrm>
          <a:off x="1712880" y="1341360"/>
          <a:ext cx="6819840" cy="5075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12880" y="1341360"/>
                    <a:ext cx="6819840" cy="50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Text Box 7"/>
          <p:cNvSpPr/>
          <p:nvPr/>
        </p:nvSpPr>
        <p:spPr>
          <a:xfrm>
            <a:off x="228600" y="1197000"/>
            <a:ext cx="19810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  <a:ea typeface="Arial"/>
              </a:rPr>
              <a:t>Красные – слабо выраженные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  <a:ea typeface="Arial"/>
              </a:rPr>
              <a:t>Синие – ярко выраженные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ура оценки руководит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54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0A79-DB2D-4E9D-B27E-4652EEACE1AA}" type="slidenum">
              <a:rPr b="0" lang="ru-RU" sz="1200" spc="-1" strike="noStrike">
                <a:solidFill>
                  <a:srgbClr val="46465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357120" y="1446840"/>
            <a:ext cx="84297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цедура оценки руководителей носит, как правило, комплексный характер, проводится периодически и включает в себ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ценку по результатам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чаще всего на основе системы ключевых показателей эффективности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ценку уровня профессиональных и общих зна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например, методом компьютерного тестирования), а такж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ценку профессиональных и личностных качеств руководителя   вышестоящими руководителями, коллегами и подчиненными сотрудниками (на основе профиля компетенций, путем составления профессиограмм или другим способом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Object 5"/>
          <p:cNvGraphicFramePr/>
          <p:nvPr/>
        </p:nvGraphicFramePr>
        <p:xfrm>
          <a:off x="2124000" y="958680"/>
          <a:ext cx="6562800" cy="5134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4000" y="958680"/>
                    <a:ext cx="6562800" cy="513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Text Box 7"/>
          <p:cNvSpPr/>
          <p:nvPr/>
        </p:nvSpPr>
        <p:spPr>
          <a:xfrm>
            <a:off x="228600" y="1143000"/>
            <a:ext cx="19810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  <a:ea typeface="Arial"/>
              </a:rPr>
              <a:t>Красные – слабо выраженные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  <a:ea typeface="Arial"/>
              </a:rPr>
              <a:t>Синие – ярко выраженные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685800" y="45576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3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фикационно-поведенческий портр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рческого директ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1"/>
          <p:cNvSpPr/>
          <p:nvPr/>
        </p:nvSpPr>
        <p:spPr>
          <a:xfrm>
            <a:off x="684360" y="2558880"/>
            <a:ext cx="79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  <a:ea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оценки руководит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58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9B3D-CD6F-4BF1-904F-CEA2D7C7C44B}" type="slidenum">
              <a:rPr b="0" lang="ru-RU" sz="1200" spc="-1" strike="noStrike">
                <a:solidFill>
                  <a:srgbClr val="46465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285840" y="1404720"/>
            <a:ext cx="86439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ой целью оценки руководителей является повышение эффективности управленческого труда и направлено н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совершенствование системы подбора, расстановки и ротации руководител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роверку соответствия руководителей занимаемой долж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рост мотивации, личной заинтересованности, инициативы и ответственности руководителей за достижение результатов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овышение квалификации и развитие ключевых компетенций руководител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птимальное использование экономических стимулов и социальных гарант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формирование условий для личностного развития руководител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выработку и принятие кадровых реш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«компетенц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324000" y="4491000"/>
            <a:ext cx="849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C751-F768-4099-8072-32A88B00C4A7}" type="slidenum">
              <a:rPr b="0" lang="ru-RU" sz="1200" spc="-1" strike="noStrike">
                <a:solidFill>
                  <a:srgbClr val="46465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трелка вниз 4" descr=""/>
          <p:cNvPicPr/>
          <p:nvPr/>
        </p:nvPicPr>
        <p:blipFill>
          <a:blip r:embed="rId2"/>
          <a:stretch/>
        </p:blipFill>
        <p:spPr>
          <a:xfrm>
            <a:off x="115920" y="1231920"/>
            <a:ext cx="1279440" cy="5095800"/>
          </a:xfrm>
          <a:prstGeom prst="rect">
            <a:avLst/>
          </a:prstGeom>
          <a:ln w="0">
            <a:noFill/>
          </a:ln>
        </p:spPr>
      </p:pic>
      <p:sp>
        <p:nvSpPr>
          <p:cNvPr id="65" name="TextBox 10"/>
          <p:cNvSpPr/>
          <p:nvPr/>
        </p:nvSpPr>
        <p:spPr>
          <a:xfrm>
            <a:off x="324000" y="3357720"/>
            <a:ext cx="834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Скругленный прямоугольник 7"/>
          <p:cNvSpPr/>
          <p:nvPr/>
        </p:nvSpPr>
        <p:spPr>
          <a:xfrm>
            <a:off x="1482840" y="1484280"/>
            <a:ext cx="7337160" cy="1368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́нция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от лат. competere — соответствовать, подходить) — способность применять знания, умения, успешно действовать на основе практического опыта при решении задач общего рода, также в определенной широкой обла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13"/>
          <p:cNvSpPr/>
          <p:nvPr/>
        </p:nvSpPr>
        <p:spPr>
          <a:xfrm>
            <a:off x="1473120" y="4724280"/>
            <a:ext cx="7226280" cy="1368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ция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овокупность взаимосвязанных базовых качеств личности, включающее в себя применение знаний, умений и навыков в качественно – продуктивной деятельности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Скругленный прямоугольник 14"/>
          <p:cNvSpPr/>
          <p:nvPr/>
        </p:nvSpPr>
        <p:spPr>
          <a:xfrm>
            <a:off x="1482840" y="3114720"/>
            <a:ext cx="7337160" cy="1368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ци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базовое качество индивидуума, включающее в себя совокупность взаимосвязанных качеств личности, необходимых для качественно – продуктивной деятельност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3"/>
          <p:cNvSpPr/>
          <p:nvPr/>
        </p:nvSpPr>
        <p:spPr>
          <a:xfrm>
            <a:off x="654120" y="3860640"/>
            <a:ext cx="8497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C06E-BF8B-4207-9A2A-02572959C903}" type="slidenum">
              <a:rPr b="0" lang="ru-RU" sz="1200" spc="-1" strike="noStrike">
                <a:solidFill>
                  <a:srgbClr val="46465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трелка вниз 4"/>
          <p:cNvSpPr/>
          <p:nvPr/>
        </p:nvSpPr>
        <p:spPr>
          <a:xfrm>
            <a:off x="1403280" y="1197000"/>
            <a:ext cx="6337440" cy="936720"/>
          </a:xfrm>
          <a:prstGeom prst="downArrow">
            <a:avLst>
              <a:gd name="adj1" fmla="val 50000"/>
              <a:gd name="adj2" fmla="val 7790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2987640" y="119700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«компетенция» 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и персонал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322200" y="3357720"/>
            <a:ext cx="83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18"/>
          <p:cNvSpPr/>
          <p:nvPr/>
        </p:nvSpPr>
        <p:spPr>
          <a:xfrm>
            <a:off x="395280" y="2276640"/>
            <a:ext cx="2232000" cy="388908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фессиональная компетенция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способность успешно действовать на основе практического опыта, умения и знаний при решении профессиональных задач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19"/>
          <p:cNvSpPr/>
          <p:nvPr/>
        </p:nvSpPr>
        <p:spPr>
          <a:xfrm>
            <a:off x="6516720" y="2276640"/>
            <a:ext cx="2158920" cy="388908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ючевая компетенция организации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совокупность конкурентных преимуществ организаци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е главный козыр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онкурентной или гиперконкурентной борьб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20"/>
          <p:cNvSpPr/>
          <p:nvPr/>
        </p:nvSpPr>
        <p:spPr>
          <a:xfrm>
            <a:off x="2700360" y="2276640"/>
            <a:ext cx="3743280" cy="388908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ци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— это личностная способность специалиста (сотрудника) решать определенный класс профессиональных задач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управлении персоналом чаще под компетенцией понимают формально описанные требования к личностным, профессиональным и др. качествам кандидата на поступление, сотрудника, или к группе сотрудников компан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ление термина «компетенц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«компетентность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3"/>
          <p:cNvSpPr/>
          <p:nvPr/>
        </p:nvSpPr>
        <p:spPr>
          <a:xfrm>
            <a:off x="324000" y="4491000"/>
            <a:ext cx="849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324000" y="3357720"/>
            <a:ext cx="834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Стрелка вправо 7"/>
          <p:cNvSpPr/>
          <p:nvPr/>
        </p:nvSpPr>
        <p:spPr>
          <a:xfrm>
            <a:off x="706320" y="1268280"/>
            <a:ext cx="7962840" cy="165600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окупность компетенций; наличие знаний и опыта, необходимых для эффективной деятельности в заданной предметной области называют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тностью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от англ. competence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Стрелка вправо 13"/>
          <p:cNvSpPr/>
          <p:nvPr/>
        </p:nvSpPr>
        <p:spPr>
          <a:xfrm>
            <a:off x="1042920" y="2997360"/>
            <a:ext cx="7626240" cy="165564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тность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— потенциальная готовность решать задачи со знанием де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Стрелка вправо 14"/>
          <p:cNvSpPr/>
          <p:nvPr/>
        </p:nvSpPr>
        <p:spPr>
          <a:xfrm>
            <a:off x="1403280" y="4724280"/>
            <a:ext cx="7265880" cy="16574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тность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— это обладание определённой компетенцией, то есть знаниями и опытом собственной деятельности, позволяющими выносить объективные суждения и принимать точные реш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компетентност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3"/>
          <p:cNvSpPr/>
          <p:nvPr/>
        </p:nvSpPr>
        <p:spPr>
          <a:xfrm>
            <a:off x="324000" y="4491000"/>
            <a:ext cx="849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324000" y="3357720"/>
            <a:ext cx="834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ятиугольник 4"/>
          <p:cNvSpPr/>
          <p:nvPr/>
        </p:nvSpPr>
        <p:spPr>
          <a:xfrm>
            <a:off x="684360" y="1268280"/>
            <a:ext cx="6624360" cy="865440"/>
          </a:xfrm>
          <a:custGeom>
            <a:avLst/>
            <a:gdLst>
              <a:gd name="textAreaLeft" fmla="*/ 0 w 6624360"/>
              <a:gd name="textAreaRight" fmla="*/ 6624720 w 662436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0" y="0"/>
                </a:lnTo>
                <a:lnTo>
                  <a:pt x="21600" y="10800"/>
                </a:lnTo>
                <a:lnTo>
                  <a:pt x="2019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тность в сфере самостоятельной познавательн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ятиугольник 11"/>
          <p:cNvSpPr/>
          <p:nvPr/>
        </p:nvSpPr>
        <p:spPr>
          <a:xfrm>
            <a:off x="1692360" y="5230800"/>
            <a:ext cx="6624720" cy="1006560"/>
          </a:xfrm>
          <a:custGeom>
            <a:avLst/>
            <a:gdLst>
              <a:gd name="textAreaLeft" fmla="*/ 0 w 6624720"/>
              <a:gd name="textAreaRight" fmla="*/ 6625080 w 662472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9" y="0"/>
                </a:lnTo>
                <a:lnTo>
                  <a:pt x="21600" y="10800"/>
                </a:lnTo>
                <a:lnTo>
                  <a:pt x="1995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тность  в сфере культурно-досугов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ятиугольник 12"/>
          <p:cNvSpPr/>
          <p:nvPr/>
        </p:nvSpPr>
        <p:spPr>
          <a:xfrm>
            <a:off x="1128600" y="3213000"/>
            <a:ext cx="6624720" cy="936720"/>
          </a:xfrm>
          <a:custGeom>
            <a:avLst/>
            <a:gdLst>
              <a:gd name="textAreaLeft" fmla="*/ 0 w 6624720"/>
              <a:gd name="textAreaRight" fmla="*/ 6625080 w 662472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73" y="0"/>
                </a:lnTo>
                <a:lnTo>
                  <a:pt x="21600" y="10800"/>
                </a:lnTo>
                <a:lnTo>
                  <a:pt x="200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тность в сфере социально-трудовой деятельност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ятиугольник 17"/>
          <p:cNvSpPr/>
          <p:nvPr/>
        </p:nvSpPr>
        <p:spPr>
          <a:xfrm>
            <a:off x="900000" y="2205000"/>
            <a:ext cx="6624720" cy="936720"/>
          </a:xfrm>
          <a:custGeom>
            <a:avLst/>
            <a:gdLst>
              <a:gd name="textAreaLeft" fmla="*/ 0 w 6624720"/>
              <a:gd name="textAreaRight" fmla="*/ 6625080 w 662472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73" y="0"/>
                </a:lnTo>
                <a:lnTo>
                  <a:pt x="21600" y="10800"/>
                </a:lnTo>
                <a:lnTo>
                  <a:pt x="200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тность в сфере гражданско-общественн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ятиугольник 9"/>
          <p:cNvSpPr/>
          <p:nvPr/>
        </p:nvSpPr>
        <p:spPr>
          <a:xfrm>
            <a:off x="1403280" y="4221000"/>
            <a:ext cx="6624720" cy="936720"/>
          </a:xfrm>
          <a:custGeom>
            <a:avLst/>
            <a:gdLst>
              <a:gd name="textAreaLeft" fmla="*/ 0 w 6624720"/>
              <a:gd name="textAreaRight" fmla="*/ 6625080 w 662472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73" y="0"/>
                </a:lnTo>
                <a:lnTo>
                  <a:pt x="21600" y="10800"/>
                </a:lnTo>
                <a:lnTo>
                  <a:pt x="200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1859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тность в бытовой сфер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оненты компетент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3"/>
          <p:cNvSpPr/>
          <p:nvPr/>
        </p:nvSpPr>
        <p:spPr>
          <a:xfrm>
            <a:off x="324000" y="4491000"/>
            <a:ext cx="849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0"/>
          <p:cNvSpPr/>
          <p:nvPr/>
        </p:nvSpPr>
        <p:spPr>
          <a:xfrm>
            <a:off x="2268360" y="3473280"/>
            <a:ext cx="8345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Овал 5"/>
          <p:cNvSpPr/>
          <p:nvPr/>
        </p:nvSpPr>
        <p:spPr>
          <a:xfrm>
            <a:off x="826920" y="1197000"/>
            <a:ext cx="2808360" cy="1152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ние самообраз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6"/>
          <p:cNvSpPr/>
          <p:nvPr/>
        </p:nvSpPr>
        <p:spPr>
          <a:xfrm>
            <a:off x="900000" y="2421000"/>
            <a:ext cx="2664000" cy="1152360"/>
          </a:xfrm>
          <a:prstGeom prst="rect">
            <a:avLst/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итическое мышл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Скругленный прямоугольник 7"/>
          <p:cNvSpPr/>
          <p:nvPr/>
        </p:nvSpPr>
        <p:spPr>
          <a:xfrm>
            <a:off x="900000" y="3718080"/>
            <a:ext cx="2735280" cy="122364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ние устанавливать причинно-следственные связ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с двумя скругленными соседними углами 8"/>
          <p:cNvSpPr/>
          <p:nvPr/>
        </p:nvSpPr>
        <p:spPr>
          <a:xfrm>
            <a:off x="5219640" y="1197000"/>
            <a:ext cx="2952720" cy="1079640"/>
          </a:xfrm>
          <a:prstGeom prst="pie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организация и самоконтро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Шестиугольник 9"/>
          <p:cNvSpPr/>
          <p:nvPr/>
        </p:nvSpPr>
        <p:spPr>
          <a:xfrm>
            <a:off x="5148360" y="3790800"/>
            <a:ext cx="3024000" cy="115092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6e4e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 в команд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с двумя скругленными противолежащими углами 16"/>
          <p:cNvSpPr/>
          <p:nvPr/>
        </p:nvSpPr>
        <p:spPr>
          <a:xfrm>
            <a:off x="5148360" y="2421000"/>
            <a:ext cx="3024000" cy="1224000"/>
          </a:xfrm>
          <a:prstGeom prst="pie">
            <a:avLst/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ние прогнозировать результаты и возможные последствия разных вариантов реш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араллелограмм 3"/>
          <p:cNvSpPr/>
          <p:nvPr/>
        </p:nvSpPr>
        <p:spPr>
          <a:xfrm>
            <a:off x="826920" y="5111640"/>
            <a:ext cx="2881440" cy="1195560"/>
          </a:xfrm>
          <a:prstGeom prst="parallelogram">
            <a:avLst>
              <a:gd name="adj" fmla="val 24994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стоятельная рабо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с одним вырезанным углом 10"/>
          <p:cNvSpPr/>
          <p:nvPr/>
        </p:nvSpPr>
        <p:spPr>
          <a:xfrm>
            <a:off x="5219640" y="5111640"/>
            <a:ext cx="3168720" cy="1197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ние находить, формулировать и решать пробле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компетен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109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E031-35F3-4546-BAEA-93AF6D6731D7}" type="slidenum">
              <a:rPr b="0" lang="ru-RU" sz="1200" spc="-1" strike="noStrike">
                <a:solidFill>
                  <a:srgbClr val="46465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Волна 8"/>
          <p:cNvSpPr/>
          <p:nvPr/>
        </p:nvSpPr>
        <p:spPr>
          <a:xfrm>
            <a:off x="179280" y="1197000"/>
            <a:ext cx="8569440" cy="1079640"/>
          </a:xfrm>
          <a:custGeom>
            <a:avLst/>
            <a:gdLst>
              <a:gd name="textAreaLeft" fmla="*/ 0 w 8569440"/>
              <a:gd name="textAreaRight" fmla="*/ 8569800 w 8569440"/>
              <a:gd name="textAreaTop" fmla="*/ 270000 h 1079640"/>
              <a:gd name="textAreaBottom" fmla="*/ 81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ормационная компетенция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это способность самостоятельно искать, анализировать, отбирать, обрабатывать и передавать необходимую информаци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Волна 11"/>
          <p:cNvSpPr/>
          <p:nvPr/>
        </p:nvSpPr>
        <p:spPr>
          <a:xfrm>
            <a:off x="179280" y="5229360"/>
            <a:ext cx="8640720" cy="1295280"/>
          </a:xfrm>
          <a:custGeom>
            <a:avLst/>
            <a:gdLst>
              <a:gd name="textAreaLeft" fmla="*/ 0 w 8640720"/>
              <a:gd name="textAreaRight" fmla="*/ 8641080 w 864072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муникативная компетенция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это владение навыками взаимодействия с окружающими людьми, умение работать в группе. Знакомство с различными социальными роля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Волна 11"/>
          <p:cNvSpPr/>
          <p:nvPr/>
        </p:nvSpPr>
        <p:spPr>
          <a:xfrm>
            <a:off x="179280" y="2060640"/>
            <a:ext cx="8569440" cy="3384360"/>
          </a:xfrm>
          <a:custGeom>
            <a:avLst/>
            <a:gdLst>
              <a:gd name="textAreaLeft" fmla="*/ 222120 w 8569440"/>
              <a:gd name="textAreaRight" fmla="*/ 8791920 w 8569440"/>
              <a:gd name="textAreaTop" fmla="*/ 846000 h 3384360"/>
              <a:gd name="textAreaBottom" fmla="*/ 2538360 h 3384360"/>
            </a:gdLst>
            <a:ahLst/>
            <a:rect l="textAreaLeft" t="textAreaTop" r="textAreaRight" b="textAreaBottom"/>
            <a:pathLst>
              <a:path w="21600" h="21600">
                <a:moveTo>
                  <a:pt x="560" y="2700"/>
                </a:moveTo>
                <a:cubicBezTo>
                  <a:pt x="7480" y="-6865"/>
                  <a:pt x="14680" y="12265"/>
                  <a:pt x="21600" y="2700"/>
                </a:cubicBezTo>
                <a:lnTo>
                  <a:pt x="21040" y="18900"/>
                </a:lnTo>
                <a:cubicBezTo>
                  <a:pt x="14120" y="28465"/>
                  <a:pt x="6920" y="9335"/>
                  <a:pt x="0" y="18900"/>
                </a:cubicBezTo>
                <a:close/>
              </a:path>
            </a:pathLst>
          </a:custGeom>
          <a:solidFill>
            <a:srgbClr val="31859c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бно-познавательная компетенция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это совокупность умений и навыков познавательной деятельности. Владение механизмами целеполагания, планирования, анализа, рефлексии, самооценки успешности собственной деятельности. Владение приемами действий в нестандартных ситуациях, эвристическими методами решения проблем. Владение измерительными навыками, использование статистических и иных методов позн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14:48:21Z</dcterms:created>
  <dc:creator>Хорошильцева Наталья Анатольевна</dc:creator>
  <dc:description/>
  <dc:language>en-US</dc:language>
  <cp:lastModifiedBy>marshev vadim ivanovich</cp:lastModifiedBy>
  <cp:lastPrinted>2015-04-19T17:12:16Z</cp:lastPrinted>
  <dcterms:modified xsi:type="dcterms:W3CDTF">2018-09-22T06:39:55Z</dcterms:modified>
  <cp:revision>31</cp:revision>
  <dc:subject/>
  <dc:title>Презентация PowerPoint</dc:title>
</cp:coreProperties>
</file>