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50E-6F9F-4107-88BD-6464A4DD3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9BA2-6106-4FCC-9C93-D54D854900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A9C-DE8C-4387-9AF5-91F9831AB7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890-647C-4A8E-BB13-03A1FF9815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27FB-0C81-4CAB-8277-83A6B23362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349-36F2-483E-8CB6-9886597871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AABB-DC13-426C-93BB-39AF482074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613-0A02-419A-83C6-7B02895041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0BFF-62E8-4ABF-98E0-AA37C6B215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BB3-871D-4279-B6F8-748A65342A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1DC-8747-4D13-8407-4FBAFDFC01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142-8D1A-4CA6-8644-9C55C01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1C4-EF04-42C1-92C8-2BCA8A2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8AA-5E6E-489B-9468-6616454F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7D1-9C8E-4945-B715-228D14C1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ABD-B2DC-4154-9D9D-6CA50B0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DA9-DDDF-44D5-8EC8-8EB2E95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1A7-802C-4EAB-BFDB-E740D1E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AF6-A6DB-411D-A8D5-F2286D2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CAF-D96C-44E6-AE75-C16B2991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1C1-3920-493D-ADBA-CB9C13E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918-B672-4E77-89FB-BCABBD9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727-7F11-4A71-83CF-8EB27B9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573B-75F9-465F-AF75-38BE08DCF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89161537372@econ.msu" TargetMode="External"/><Relationship Id="rId3" Type="http://schemas.openxmlformats.org/officeDocument/2006/relationships/hyperlink" Target="mailto:89161537372@econ.ms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164304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1241280" y="3860640"/>
            <a:ext cx="757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 кафедры экономики труда и персо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факульт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им. М.В. Ломон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ьце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8916153737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87280" y="558972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сентября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68360" y="6597720"/>
            <a:ext cx="834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>
            <a:off x="3419640" y="1341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ны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всем сотрудникам компа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3"/>
          <p:cNvSpPr/>
          <p:nvPr/>
        </p:nvSpPr>
        <p:spPr>
          <a:xfrm>
            <a:off x="3419640" y="3068640"/>
            <a:ext cx="5400360" cy="151272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lnTo>
                  <a:pt x="302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джерски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руководителям компании (всем или только определённого уровн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ашивка 14"/>
          <p:cNvSpPr/>
          <p:nvPr/>
        </p:nvSpPr>
        <p:spPr>
          <a:xfrm>
            <a:off x="3419640" y="4797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5a605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(специфические) компетен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обходимые только какой-то определённой категории сотрудников (например: менеджеры по продаж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Табличка 10"/>
          <p:cNvSpPr/>
          <p:nvPr/>
        </p:nvSpPr>
        <p:spPr>
          <a:xfrm>
            <a:off x="324000" y="2060640"/>
            <a:ext cx="2303280" cy="3816360"/>
          </a:xfrm>
          <a:custGeom>
            <a:avLst/>
            <a:gdLst>
              <a:gd name="textAreaLeft" fmla="*/ 271440 w 2303280"/>
              <a:gd name="textAreaRight" fmla="*/ 2031840 w 2303280"/>
              <a:gd name="textAreaTop" fmla="*/ 271440 h 3816360"/>
              <a:gd name="textAreaBottom" fmla="*/ 354492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0" swAng="5400000"/>
                <a:lnTo>
                  <a:pt x="0" y="32187"/>
                </a:lnTo>
                <a:arcTo wR="3600" hR="3600" stAng="16200000" swAng="5400000"/>
                <a:lnTo>
                  <a:pt x="18000" y="3578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Компетенций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исывает качества, необходимые персоналу в данной компании для того, чтобы быть успеш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68360" y="657216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Описание: Разработка модели компетенций"/>
          <p:cNvPicPr/>
          <p:nvPr/>
        </p:nvPicPr>
        <p:blipFill>
          <a:blip r:embed="rId2"/>
          <a:stretch/>
        </p:blipFill>
        <p:spPr>
          <a:xfrm>
            <a:off x="142920" y="1127160"/>
            <a:ext cx="8831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его места к сотруд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1187280"/>
            <a:ext cx="8534160" cy="5094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Профессиона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ж работы общий и по специ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ретные навыки и ум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3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официальных документов (лицензия, сертификат и д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Личност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ий ви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ллектуальные кач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характ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Биографические и ситу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йное поло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 житель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Умение работать в коман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5E5-4A30-40DE-87DB-F7F16A0B5EB8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900000" y="128124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обственные идеи по поводу решения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интерес к точке зрения членов кома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группе достичь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 вклад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достижению консенсу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конфликта стремится его разрешать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28"/>
          <p:cNvSpPr/>
          <p:nvPr/>
        </p:nvSpPr>
        <p:spPr>
          <a:xfrm>
            <a:off x="304920" y="1197000"/>
            <a:ext cx="8610480" cy="5662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Эффективность в работе с люд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едставлять организацию на всех уровн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рожелательное отношение к подчиненны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сотрудничать с другими подразделения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инима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быстро усваивать новые знания и концеп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широкого взгляда на пробл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выявить ключевые моменты сложной проблем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чные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бкость в подходе к пробл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принять ответст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работать в чрезвычайных обстоятельствах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0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специфик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52280" y="12304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ая спец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описывающий параметры, которым должен обладать работник для успешного выполнения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 Роджер в 1930 г. «План семи пунк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2379600"/>
            <a:ext cx="2209680" cy="379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43200" y="2379600"/>
            <a:ext cx="5638680" cy="3796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мые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2836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048120" y="2379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3218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3598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62120" y="3979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762120" y="4361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62120" y="4741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762120" y="5122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762120" y="5504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008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277080" y="2913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029920" y="29131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475320" y="2882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82920" y="3218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и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91560" y="35989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685800" y="39798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ая понят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99480" y="436104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ециальные способ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93360" y="4741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е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84720" y="51228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ерты харак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85440" y="558000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шние усл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Результатив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5092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ценка вклада должностного лица в результаты работы структурного подразделения и/или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787400"/>
          <a:ext cx="8928000" cy="4743720"/>
        </p:xfrm>
        <a:graphic>
          <a:graphicData uri="http://schemas.openxmlformats.org/drawingml/2006/table">
            <a:tbl>
              <a:tblPr/>
              <a:tblGrid>
                <a:gridCol w="295200"/>
                <a:gridCol w="8042400"/>
                <a:gridCol w="590400"/>
              </a:tblGrid>
              <a:tr h="3207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в рамках своих должност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а взаимосвязанных участках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ескольких долж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бригады, сек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частка,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цеха,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правления, служ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департамента, дире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6080"/>
          <a:ext cx="8713800" cy="5157720"/>
        </p:xfrm>
        <a:graphic>
          <a:graphicData uri="http://schemas.openxmlformats.org/drawingml/2006/table">
            <a:tbl>
              <a:tblPr/>
              <a:tblGrid>
                <a:gridCol w="415800"/>
                <a:gridCol w="3395520"/>
                <a:gridCol w="546120"/>
                <a:gridCol w="544680"/>
                <a:gridCol w="544320"/>
                <a:gridCol w="544680"/>
                <a:gridCol w="544680"/>
                <a:gridCol w="544320"/>
                <a:gridCol w="544680"/>
                <a:gridCol w="544320"/>
                <a:gridCol w="544680"/>
              </a:tblGrid>
              <a:tr h="28692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лох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правлен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выраженности лид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знания и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рганиз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овести дело до кон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льность, смелость в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ние миссии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умному ри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йствовать в нестандартных ситу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рганизовать взаимодействие с другими подразд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разным точкам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итетность (в т.ч. вне Компа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повести за собой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197000"/>
          <a:ext cx="8584920" cy="5361120"/>
        </p:xfrm>
        <a:graphic>
          <a:graphicData uri="http://schemas.openxmlformats.org/drawingml/2006/table">
            <a:tbl>
              <a:tblPr/>
              <a:tblGrid>
                <a:gridCol w="411120"/>
                <a:gridCol w="3346200"/>
                <a:gridCol w="534960"/>
                <a:gridCol w="535320"/>
                <a:gridCol w="537840"/>
                <a:gridCol w="535320"/>
                <a:gridCol w="537840"/>
                <a:gridCol w="538200"/>
                <a:gridCol w="534960"/>
                <a:gridCol w="538200"/>
                <a:gridCol w="5349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ед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нность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сть, верность с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теллектуальные; Эврис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культура, воспита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учебе, зн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торство, инициатива, кре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готовить себе сме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д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грам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 - нравствен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у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сихо - физи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ность, 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712880" y="1341360"/>
          <a:ext cx="681984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341360"/>
                    <a:ext cx="6819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228600" y="1197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ED13-7A0F-4FA1-8FFB-FBD1E5852EAA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57120" y="144684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оценки руководителей носит, как правило, комплексный характер, проводится периодически и включает в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о результатам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чаще всего на основе системы ключевых показателей эффективност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уровня профессиональных и общи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методом компьютерного тестирования), а так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ых и личностных качеств руководителя   вышестоящими руководителями, коллегами и подчиненными сотрудниками (на основе профиля компетенций, путем составления профессиограмм или другим способ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5"/>
          <p:cNvGraphicFramePr/>
          <p:nvPr/>
        </p:nvGraphicFramePr>
        <p:xfrm>
          <a:off x="2124000" y="958680"/>
          <a:ext cx="6562800" cy="51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958680"/>
                    <a:ext cx="65628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7"/>
          <p:cNvSpPr/>
          <p:nvPr/>
        </p:nvSpPr>
        <p:spPr>
          <a:xfrm>
            <a:off x="228600" y="1143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684360" y="25588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8D75-C4B7-4B3C-9F7E-B71DEB86DFA3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85840" y="14047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целью оценки руководителей является повышение эффективности управленческого труда и направлено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ершенствование системы подбора, расстановки и ротации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у соответствия руководителей занимаемой дол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ст мотивации, личной заинтересованности, инициативы и ответственности руководителей за достижение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квалификации и развитие ключевых компетенций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альное использование экономических стимулов и социальных гаран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словий для личностного развития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отку и принятие кадровы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D28-0FA4-4BB4-A6D0-B6057CC19BD9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трелка вниз 4" descr=""/>
          <p:cNvPicPr/>
          <p:nvPr/>
        </p:nvPicPr>
        <p:blipFill>
          <a:blip r:embed="rId2"/>
          <a:stretch/>
        </p:blipFill>
        <p:spPr>
          <a:xfrm>
            <a:off x="115920" y="1231920"/>
            <a:ext cx="127944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1482840" y="148428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́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лат. competere — соответствовать, подходить) — способность применять знания, умения, успешно действовать на основе практического опыта при решении задач общего рода, также в определенной широ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1473120" y="4724280"/>
            <a:ext cx="7226280" cy="13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вокупность взаимосвязанных базовых качеств личности, включающее в себя применение знаний, умений и навыков в качественно – продуктивной деятельност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1482840" y="311472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азовое качество индивидуума, включающее в себя совокупность взаимосвязанных качеств личности, необходимых для качественно – продук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654120" y="386064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9C8-EFA8-41FB-BC7B-53949B88A020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4"/>
          <p:cNvSpPr/>
          <p:nvPr/>
        </p:nvSpPr>
        <p:spPr>
          <a:xfrm>
            <a:off x="1403280" y="1197000"/>
            <a:ext cx="6337440" cy="936720"/>
          </a:xfrm>
          <a:prstGeom prst="downArrow">
            <a:avLst>
              <a:gd name="adj1" fmla="val 50000"/>
              <a:gd name="adj2" fmla="val 7790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87640" y="119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и персон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2200" y="335772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95280" y="2276640"/>
            <a:ext cx="223200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пособность успешно действовать на основе практического опыта, умения и знаний при решении профессиональны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516720" y="2276640"/>
            <a:ext cx="215892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ая компетенция организа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вокупность конкурентных преимуществ организ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главный козы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курентной или гиперконкурентной борь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700360" y="2276640"/>
            <a:ext cx="374328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личностная способность специалиста (сотрудника) решать определенный класс профессиональных зада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правлении персоналом чаще под компетенцией понимают формально описанные требования к личностным, профессиональным и др. качествам кандидата на поступление, сотрудника, или к группе сотрудников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термина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т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право 7"/>
          <p:cNvSpPr/>
          <p:nvPr/>
        </p:nvSpPr>
        <p:spPr>
          <a:xfrm>
            <a:off x="706320" y="1268280"/>
            <a:ext cx="7962840" cy="1656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компетенций; наличие знаний и опыта, необходимых для эффективной деятельности в заданной предметной области называют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 competen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3"/>
          <p:cNvSpPr/>
          <p:nvPr/>
        </p:nvSpPr>
        <p:spPr>
          <a:xfrm>
            <a:off x="1042920" y="2997360"/>
            <a:ext cx="7626240" cy="165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отенциальная готовность решать задачи со знанием д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4"/>
          <p:cNvSpPr/>
          <p:nvPr/>
        </p:nvSpPr>
        <p:spPr>
          <a:xfrm>
            <a:off x="1403280" y="4724280"/>
            <a:ext cx="7265880" cy="1657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обладание определённой компетенцией, то есть знаниями и опытом собственной деятельности, позволяющими выносить объективные суждения и принимать точные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етент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ятиугольник 4"/>
          <p:cNvSpPr/>
          <p:nvPr/>
        </p:nvSpPr>
        <p:spPr>
          <a:xfrm>
            <a:off x="684360" y="1268280"/>
            <a:ext cx="6624360" cy="8654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амостоятельной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ятиугольник 11"/>
          <p:cNvSpPr/>
          <p:nvPr/>
        </p:nvSpPr>
        <p:spPr>
          <a:xfrm>
            <a:off x="1692360" y="5230800"/>
            <a:ext cx="6624720" cy="100656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 в сфере культурно-досуг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иугольник 12"/>
          <p:cNvSpPr/>
          <p:nvPr/>
        </p:nvSpPr>
        <p:spPr>
          <a:xfrm>
            <a:off x="1128600" y="3213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оциально-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ятиугольник 17"/>
          <p:cNvSpPr/>
          <p:nvPr/>
        </p:nvSpPr>
        <p:spPr>
          <a:xfrm>
            <a:off x="900000" y="2205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гражданско-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ятиугольник 9"/>
          <p:cNvSpPr/>
          <p:nvPr/>
        </p:nvSpPr>
        <p:spPr>
          <a:xfrm>
            <a:off x="1403280" y="4221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бытовой сф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268360" y="347328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826920" y="1197000"/>
            <a:ext cx="280836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амо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900000" y="2421000"/>
            <a:ext cx="2664000" cy="115236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ческое 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900000" y="3718080"/>
            <a:ext cx="2735280" cy="1223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с двумя скругленными соседними углами 8"/>
          <p:cNvSpPr/>
          <p:nvPr/>
        </p:nvSpPr>
        <p:spPr>
          <a:xfrm>
            <a:off x="5219640" y="1197000"/>
            <a:ext cx="2952720" cy="107964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рганизация и само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Шестиугольник 9"/>
          <p:cNvSpPr/>
          <p:nvPr/>
        </p:nvSpPr>
        <p:spPr>
          <a:xfrm>
            <a:off x="5148360" y="3790800"/>
            <a:ext cx="3024000" cy="11509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6e4e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коман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с двумя скругленными противолежащими углами 16"/>
          <p:cNvSpPr/>
          <p:nvPr/>
        </p:nvSpPr>
        <p:spPr>
          <a:xfrm>
            <a:off x="5148360" y="2421000"/>
            <a:ext cx="3024000" cy="12240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огнозировать результаты и возможные последствия разных вариантов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араллелограмм 3"/>
          <p:cNvSpPr/>
          <p:nvPr/>
        </p:nvSpPr>
        <p:spPr>
          <a:xfrm>
            <a:off x="826920" y="5111640"/>
            <a:ext cx="2881440" cy="1195560"/>
          </a:xfrm>
          <a:prstGeom prst="parallelogram">
            <a:avLst>
              <a:gd name="adj" fmla="val 24994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с одним вырезанным углом 10"/>
          <p:cNvSpPr/>
          <p:nvPr/>
        </p:nvSpPr>
        <p:spPr>
          <a:xfrm>
            <a:off x="5219640" y="5111640"/>
            <a:ext cx="3168720" cy="1197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находить, формулировать и решать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96B-D870-4D30-92D8-CBC2591CF06A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Волна 8"/>
          <p:cNvSpPr/>
          <p:nvPr/>
        </p:nvSpPr>
        <p:spPr>
          <a:xfrm>
            <a:off x="179280" y="1197000"/>
            <a:ext cx="8569440" cy="1079640"/>
          </a:xfrm>
          <a:custGeom>
            <a:avLst/>
            <a:gdLst>
              <a:gd name="textAreaLeft" fmla="*/ 0 w 8569440"/>
              <a:gd name="textAreaRight" fmla="*/ 8569800 w 8569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пособность самостоятельно искать, анализировать, отбирать, обрабатывать и передавать необходим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Волна 11"/>
          <p:cNvSpPr/>
          <p:nvPr/>
        </p:nvSpPr>
        <p:spPr>
          <a:xfrm>
            <a:off x="179280" y="5229360"/>
            <a:ext cx="8640720" cy="1295280"/>
          </a:xfrm>
          <a:custGeom>
            <a:avLst/>
            <a:gdLst>
              <a:gd name="textAreaLeft" fmla="*/ 0 w 8640720"/>
              <a:gd name="textAreaRight" fmla="*/ 8641080 w 86407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владение навыками взаимодействия с окружающими людьми, умение работать в группе. Знакомство с различными социальными рол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олна 11"/>
          <p:cNvSpPr/>
          <p:nvPr/>
        </p:nvSpPr>
        <p:spPr>
          <a:xfrm>
            <a:off x="179280" y="2060640"/>
            <a:ext cx="8569440" cy="3384360"/>
          </a:xfrm>
          <a:custGeom>
            <a:avLst/>
            <a:gdLst>
              <a:gd name="textAreaLeft" fmla="*/ 222120 w 8569440"/>
              <a:gd name="textAreaRight" fmla="*/ 8791920 w 8569440"/>
              <a:gd name="textAreaTop" fmla="*/ 846000 h 3384360"/>
              <a:gd name="textAreaBottom" fmla="*/ 2538360 h 3384360"/>
            </a:gdLst>
            <a:ahLst/>
            <a:rect l="textAreaLeft" t="textAreaTop" r="textAreaRight" b="textAreaBottom"/>
            <a:pathLst>
              <a:path w="21600" h="21600">
                <a:moveTo>
                  <a:pt x="560" y="2700"/>
                </a:moveTo>
                <a:cubicBezTo>
                  <a:pt x="7480" y="-6865"/>
                  <a:pt x="14680" y="12265"/>
                  <a:pt x="21600" y="2700"/>
                </a:cubicBezTo>
                <a:lnTo>
                  <a:pt x="21040" y="18900"/>
                </a:lnTo>
                <a:cubicBezTo>
                  <a:pt x="14120" y="28465"/>
                  <a:pt x="6920" y="9335"/>
                  <a:pt x="0" y="18900"/>
                </a:cubicBezTo>
                <a:close/>
              </a:path>
            </a:pathLst>
          </a:custGeom>
          <a:solidFill>
            <a:srgbClr val="31859c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овокупность умений и навыков познавательной деятельности. Владение механизмами целеполагания, планирования, анализа, рефлексии, самооценки успешности собственной деятельности. Владение приемами действий в нестандартных ситуациях, эвристическими методами решения проблем. Владение измерительными навыками, использование статистических и иных методов поз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4:48:21Z</dcterms:created>
  <dc:creator>Хорошильцева Наталья Анатольевна</dc:creator>
  <dc:description/>
  <dc:language>en-US</dc:language>
  <cp:lastModifiedBy>marshev vadim ivanovich</cp:lastModifiedBy>
  <cp:lastPrinted>2015-04-19T17:12:16Z</cp:lastPrinted>
  <dcterms:modified xsi:type="dcterms:W3CDTF">2018-09-22T06:39:55Z</dcterms:modified>
  <cp:revision>31</cp:revision>
  <dc:subject/>
  <dc:title>Презентация PowerPoint</dc:title>
</cp:coreProperties>
</file>