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69C-124A-4345-87F9-DF2FD18F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4CC-217A-453A-8918-9A797EAA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182D8-6CCC-4F35-A06A-374CFB6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84211-D739-47E9-B3B5-E61A6E36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7160-677D-46E1-B8AA-5FC3D637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C212-B77A-4825-B7BD-CA21CE6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BEEBF-C69B-413A-A3A4-7CD8962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B133-54DC-445A-8B93-28D1D82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E5D05-43B3-4874-A830-2193D40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BC711-F955-4E1A-974C-34D5EFCF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BDF33-D725-4DC5-89DB-AA367B9D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4D05-28AF-4265-9864-B8B0F89F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FA5-36B1-4787-ACC3-B105DE43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D60F8-4864-4FE2-8B07-8B928B9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D0D3-1393-4691-B484-6F5F071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7E9F1-1D89-422B-B138-1C37FA8E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4B1DB-CB05-49A3-A479-78E1417E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D35C1-175F-4075-B0D8-87639D7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EDD15-ADC2-444A-B4AE-3D1AC23C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91DF-FE82-4883-B5C9-2B262DD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904B3-2C80-4675-A2B2-6FD62B8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72BE9-F9DA-4FEE-96A8-189EA7B4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D3F84-9BAF-4EEE-86B3-911FF948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8A6-5BF2-456C-AB58-AAC3BC12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7021F-848B-472F-88FB-422AB127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8480C-9C97-458A-9F70-FF548C25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B4312-2D4E-4937-B2DC-76E4443B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B99D6-2A19-438D-9A9F-97AA64DE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9C5A1-6E8D-494F-8805-2D1DBFA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70205-E2EA-461A-A09C-231895C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C3BD7-88F0-4077-A19F-798CC2D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5B5F-2D89-43C9-87C4-CC941C7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CEB88-E447-4556-A251-2066109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37AC-10BD-4F28-9E28-A3C4407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726-898D-48EA-B9BA-DF5A02ED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5E1D-0E80-4612-B29E-58F5B6B2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BE03-B13B-4E2D-BF9A-5E444F7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A3B0B-0195-4BAE-A063-34E3CDC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6F27-99C3-488F-9982-E8F161BE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36939-B2C6-4C44-AA03-0408B93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DBF35-4828-45D4-A091-78A0FEA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D2ED6-6799-44D9-8BFC-F77DB60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65E29-B48B-478A-9591-676160C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86D61-AE35-46A2-AFA6-3D01F2C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9EF1F-EDEC-4F3C-B741-18405BF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B393-72B5-4652-BEE1-BEA4B94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8F1CE-3B15-4015-828F-5B5D714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C6A8D-836B-4884-A392-DFB99B2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584E-42D7-45D0-8DC1-80B8D35F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2FDD5-3E1A-4055-BA1E-87A2D9AD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DA0DF-8057-42CF-80A6-EBE8EC98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D7F5D-0D56-4A3A-A1A4-FCAF2708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DFA99-712F-47AA-A937-C510C2A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F7A74-2127-416C-B7D6-3CD3BD2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3F18-4FB5-473C-9B84-F72E6B73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9A643-55B4-4495-AA46-C0C20CA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F12F-EBAE-422B-9C72-A1167107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39F38-B7B0-4B13-8108-FA9EF37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4137E-7A2F-4EA3-86ED-A4A151E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DA7FF-B0C5-4253-9BBC-5A049D6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256D6-ACCD-4C57-A3D9-6A665FA4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DD56B-01F2-478A-9F2D-215DCFA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A9B1D-C9EE-4000-BD85-00D86A93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85222-936E-4283-A43D-B7949EB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AD3-2CFD-47B9-A42D-B9B38E0B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32B-B206-4BFE-BF92-34FAA8B2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2A3D-546B-46B8-BA75-6B59992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531-2CA4-402A-B955-21A90A9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E49-9283-4EC4-B5D6-F907C59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ED30-5EB3-4609-BFFC-6A6D2B0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15C7-B219-4E83-A4CD-A4671B5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4F00-A36B-4E18-BF8E-4B8DE7E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63DC-20FD-430E-B9EB-019699C7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E5BA-B6C1-4893-AB49-439FB9D7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EC92-B0F2-4B9B-8A9E-E59ED0AF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8004-7046-48FB-A272-CB95D63E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4A1A-4656-4B71-92AE-73F4C79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EE12-FD16-4C56-A524-D24CB9A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B42A-E500-4B36-8D06-0D75204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E28-B335-477D-BCB4-3CAE4DFB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9833-4845-495C-B231-E36B4627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6ED9-CCB9-45F2-8243-73D189A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878B-871D-4D97-B138-373F660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72AF-07F0-4A82-B73C-7317077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840E-D3BD-4D90-8993-382EABC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5D6F-2D7A-4AD4-9685-D3C3F68E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1D39-D1A2-4E8D-B246-F7A8267E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1074-09F1-47AD-A645-F1D6B5C9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7669-7D99-4D3F-ABA3-C111E6F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3B0C-25CE-48C6-A5CB-D71212B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692-AAE3-4274-8A3C-B05801A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7CA8-C180-46D7-8E5A-B979644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1736-F1CE-4DAE-9960-9813E18E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ACD1-A38F-4CD4-9876-55D537C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AEE8-8B32-47D3-A8A2-1AB36CC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7CF7-4EC9-4AE0-AF67-B4927E28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93D6-B83A-4387-B2D1-05E0D9F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68A3-8435-478F-8321-F0AE1C86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C20D-FA49-46E6-909A-85F6E1C7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89FC-DA1A-4323-8A24-743104D3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3203-0BFA-4863-84E1-5911C01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34A-BAAF-4D93-9FBD-6B15F40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84D3-7FCA-440A-B1DE-AB7AD49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38BC-7D94-4985-A767-908A590C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AEAD-2322-4E38-A00E-6B50179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03CD2-C81B-4C60-B728-594B99FA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5F1D-D3BE-4384-B2B4-A82BC9B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40AE-EFF1-415D-ADE6-FB03F91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74459-6A6E-4BB0-BAB0-2EEDD08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42EB-5D9C-4370-85F6-8B090AEE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E83D-DA1C-483B-943B-D43239B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1591-612E-4715-A40E-CAB1C53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643-4DF2-4177-AA33-28BE368A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7289-842B-4614-AC1C-736E8DC0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DAF8-E285-4F76-9283-7F9581A3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1A6D-816B-455A-820E-25D2F8A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7086-8C61-4C30-820E-7B1DB5F3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6FEA-6085-4E29-89E4-0D0EB65D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502E-17EB-4872-BFF2-71524B1C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F67D-DBA0-48F9-BD77-18489013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6AD3-015B-4492-803D-FDD14CE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4A2DF-7EC1-4167-9485-2617A1A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0EE7-4517-4DCE-8565-20F1241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485-ADF1-467E-AD0D-8B08549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123C-DE76-4C88-A163-B09BBBB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2D67-0776-4E74-9E02-BF48A60F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CA7B-CD1D-4F07-9248-66DD44CB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9B46-0794-4457-9DC4-E476666B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FAF2-6B6A-44EB-8CCE-A7A6EDC2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2881F-605B-487E-9C57-3BDC452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856F-6718-4EB9-BEBF-03655A0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1B66-6A98-4021-B658-639E6143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C9606-2700-49AF-B870-225F539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8C7E-CC7C-46BE-AAEE-23D4D53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730-AA8E-4AFF-99CC-7D2EC59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151AA-3AC4-45D7-B363-443F336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3187-13B0-4420-85ED-315F1E9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E52D-65DA-4BDD-890B-576C01D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CFB4-B03A-4B81-96F5-04BAD27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DE1B-BCFD-4CC1-8985-77DC900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1FF7C-AFCA-49A9-A4B3-A5A32E6A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1A04F-FD98-4961-A91D-04310BD2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977A-3C2C-4B5D-8870-36987A1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D2962-825C-40FA-96C4-56BCE32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B2EAF-1114-4444-B2B2-F1216AD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497-F921-4D00-A18F-1F10314B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4385-DC8A-4410-A109-5376276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6A8D-D51B-4B5E-A094-3A8EABD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1EE3-055F-463C-B0A2-4834634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0CA5-CC6A-4C71-A96E-AC083C6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B21B7-7B8B-42C5-AFBB-5280CF1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C5828-390C-44F9-BE52-F675810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9CE3A-3778-4FEF-9E48-EB12F70B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A85FC-A7A4-4DE3-B6CF-EECDE062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73CF-1ABC-4BD7-9084-BEAD99E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24EC1-2855-431A-B0C4-9DFC77A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77AC5-916F-4848-9127-7FB6ED7DA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41A08-EA4B-4FBC-9070-C595271C8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5EF1E-96D0-418C-A9C2-D3EBA8980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1EF16-C5B6-426F-B9C8-CF858FFDA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63D2C-C06F-452F-801B-CCF90D3C3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2B98D-32BB-487D-9C2D-6E79E3E85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4E359-6358-418B-8154-DCE7D0E4F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6F3DC-D04B-4FA2-B896-84DA52C80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127B1-7DFF-44AA-BF53-48857363C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B2B07-7CB0-463A-BD09-CD80AD34A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22C09-A65C-41D0-B9BB-B6C6DBB916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28AA0-D3AE-447B-A470-6D602A3D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C6C02-E128-4C4A-B242-67696E3A2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EF81D-2EC5-4267-8C10-081A89534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1BDE9-E7FE-4EC8-9B18-A961E1507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5CE7B-AC60-4FDD-AD36-85006DA45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D16ED-A935-46DF-A784-AAEE85395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72EE6-C27E-4462-B723-4D16C243F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BF79A-4DF7-4229-A601-0DE087A318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C1DA6-27C5-408C-9279-4F120086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522FC-133E-4393-9BA1-57113C32A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EDA8C-6170-4C09-94C2-304945B3E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0BBAF-56C5-400A-AE02-AF2F512519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63987-8932-4731-8054-A86E24FC8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E95EE-76F2-4E86-A019-5EA15FAC2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447C9-D11F-4505-A8F6-7625D28AA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avelyonok@hse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МЕЖДУНАРОДНАЯ КОНФЕРЕНЦИЯ по ИСТОРИИ УПРАВЛЕНЧЕСКОЙ МЫСЛИ И БИЗНЕСА , Москва, 21.09.2018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ubtitle 2"/>
          <p:cNvSpPr/>
          <p:nvPr/>
        </p:nvSpPr>
        <p:spPr>
          <a:xfrm>
            <a:off x="614520" y="2954160"/>
            <a:ext cx="791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 Semibold"/>
              </a:rPr>
              <a:t>Какой менеджмент нам нуж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ubtitle 2"/>
          <p:cNvSpPr/>
          <p:nvPr/>
        </p:nvSpPr>
        <p:spPr>
          <a:xfrm>
            <a:off x="766800" y="4587840"/>
            <a:ext cx="791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к.э.н., доцент Института образования НИУ ВШ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Е.А.Савелё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hse.ru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614520" y="2727360"/>
            <a:ext cx="8035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СПАСИБ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м.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903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) 134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-8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Myriad Pro"/>
                <a:hlinkClick r:id="rId2"/>
              </a:rPr>
              <a:t>esavelyonok@hse.ru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Subtitle 2"/>
          <p:cNvGrpSpPr/>
          <p:nvPr/>
        </p:nvGrpSpPr>
        <p:grpSpPr>
          <a:xfrm>
            <a:off x="255600" y="2133720"/>
            <a:ext cx="8791560" cy="2614320"/>
            <a:chOff x="255600" y="2133720"/>
            <a:chExt cx="8791560" cy="2614320"/>
          </a:xfrm>
        </p:grpSpPr>
        <p:pic>
          <p:nvPicPr>
            <p:cNvPr id="53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90120" cy="26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55600" y="2133720"/>
              <a:ext cx="87915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Не тот мне знаток в корабле, кто перечел и перемерял каюты и веревки, но кто познал силу и природу корабля: тот, разумея компас, разумеет путь его и все око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ригорий Сков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Россией управлять совсем не сложно, но совершенно бесполезно [бессмысленно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лександр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I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9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У каждого из нас есть только одно истинное призвание – найти путь к самому се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ерман Ге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55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Я 30 лет изучаю менеджмент, а ты меня тут учишь жизни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(фраза из жизн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61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Человек, рожденный от жены, краткодневен и пресыщен печ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нига И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6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В основе свободы и автономности индивида лежит … простое эмпирическое осознание, непередаваемое ощущение очень личной взаимосвязи человека и внеземной силы, которая действует как противовес «миру» и его «разум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.Г. Юн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7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Любое общее образование, лишенное ориентации на предельные смысловые проблемы, на высшие ценности и смысл бытия — ущерб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.А.Пи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Subtitle 2"/>
          <p:cNvGrpSpPr/>
          <p:nvPr/>
        </p:nvGrpSpPr>
        <p:grpSpPr>
          <a:xfrm>
            <a:off x="628560" y="2712960"/>
            <a:ext cx="8058240" cy="2054160"/>
            <a:chOff x="628560" y="2712960"/>
            <a:chExt cx="8058240" cy="2054160"/>
          </a:xfrm>
        </p:grpSpPr>
        <p:pic>
          <p:nvPicPr>
            <p:cNvPr id="579" name="Subtitle 2" descr=""/>
            <p:cNvPicPr/>
            <p:nvPr/>
          </p:nvPicPr>
          <p:blipFill>
            <a:blip r:embed="rId2"/>
            <a:stretch/>
          </p:blipFill>
          <p:spPr>
            <a:xfrm>
              <a:off x="631440" y="2712960"/>
              <a:ext cx="80550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28560" y="2714760"/>
              <a:ext cx="80582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ТАК КТО ЖЕ МЫ ТАКИЕ, МЕНЕДЖЕРЫ ???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45:29Z</dcterms:created>
  <dc:creator>vkremlev</dc:creator>
  <dc:description/>
  <dc:language>en-US</dc:language>
  <cp:lastModifiedBy>marshev vadim ivanovich</cp:lastModifiedBy>
  <cp:lastPrinted>2016-10-31T15:52:17Z</cp:lastPrinted>
  <dcterms:modified xsi:type="dcterms:W3CDTF">2018-09-21T06:44:53Z</dcterms:modified>
  <cp:revision>455</cp:revision>
  <dc:subject/>
  <dc:title>Slide 1</dc:title>
</cp:coreProperties>
</file>