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25E-3C38-44B0-A037-C948A4BF354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226E0-11D4-479A-B2BF-015AD227463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70926-1632-450F-865D-554A6F79517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48C3-4C01-4154-9141-68355DDCB7F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83138-3248-4F0B-A419-BD8B29731CF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8679-C410-4272-BC11-19D7FA13C939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158AB-907F-40FF-A54E-FC1AF9AC5B26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602F6-5EF6-4236-A3F4-E5FCEFCFD7D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A5CAB-60BB-45BA-8A1B-46D17F04495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3D596-32A0-4AE9-A590-33C0BEF4440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588D-6E44-4D7B-ADFD-7F3A2983B8F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4D61-55A4-403C-9F1F-B17B7CEDF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2A34-ADDF-4AF7-BB7D-314A3E87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CBFE-118C-469C-BACA-A0E5EA53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3EF-999A-4601-AB7D-EB39C4D31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C002-59FD-4A8F-B17F-6355646A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DE99-77BE-4E99-BB87-6096CF3B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954D-4FD3-45C1-8549-CA83A173C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50E-B1F7-409F-8A54-E7495C58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6534-8166-46D2-97B4-C4B1DE3F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1EEC-B743-4540-B5FE-7EA6B4A59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CC23-69CF-4E3D-8417-60123AF12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35F32-D52D-498C-BA68-26DF5E99C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5D4F-6E62-4DE5-BAB1-0F394DFDDD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89161537372@econ.msu" TargetMode="External"/><Relationship Id="rId3" Type="http://schemas.openxmlformats.org/officeDocument/2006/relationships/hyperlink" Target="mailto:89161537372@econ.msu" TargetMode="Externa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187280" y="1643040"/>
            <a:ext cx="712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онные аспек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 руковод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21"/>
          <p:cNvSpPr/>
          <p:nvPr/>
        </p:nvSpPr>
        <p:spPr>
          <a:xfrm>
            <a:off x="1241280" y="3860640"/>
            <a:ext cx="7578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.э.н., доцент кафедры экономики труда и персона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ого факультет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ГУ им. М.В. Ломонос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рошильцева Наталья Анатолье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89161537372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@mail.ru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4"/>
          <p:cNvSpPr/>
          <p:nvPr/>
        </p:nvSpPr>
        <p:spPr>
          <a:xfrm>
            <a:off x="1187280" y="5589720"/>
            <a:ext cx="712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 сентября 2018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ь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15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468360" y="6597720"/>
            <a:ext cx="834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Нашивка 11"/>
          <p:cNvSpPr/>
          <p:nvPr/>
        </p:nvSpPr>
        <p:spPr>
          <a:xfrm>
            <a:off x="3419640" y="1341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поративны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всем сотрудникам компании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ашивка 13"/>
          <p:cNvSpPr/>
          <p:nvPr/>
        </p:nvSpPr>
        <p:spPr>
          <a:xfrm>
            <a:off x="3419640" y="3068640"/>
            <a:ext cx="5400360" cy="151272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2720"/>
              <a:gd name="textAreaBottom" fmla="*/ 1513080 h 151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5" y="0"/>
                </a:lnTo>
                <a:lnTo>
                  <a:pt x="21600" y="10800"/>
                </a:lnTo>
                <a:lnTo>
                  <a:pt x="18575" y="21600"/>
                </a:lnTo>
                <a:lnTo>
                  <a:pt x="0" y="21600"/>
                </a:lnTo>
                <a:lnTo>
                  <a:pt x="3025" y="1080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еджерские компетен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необходимые руководителям компании (всем или только определённого уровн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Нашивка 14"/>
          <p:cNvSpPr/>
          <p:nvPr/>
        </p:nvSpPr>
        <p:spPr>
          <a:xfrm>
            <a:off x="3419640" y="4797360"/>
            <a:ext cx="5400360" cy="1511280"/>
          </a:xfrm>
          <a:custGeom>
            <a:avLst/>
            <a:gdLst>
              <a:gd name="textAreaLeft" fmla="*/ 0 w 5400360"/>
              <a:gd name="textAreaRight" fmla="*/ 5400720 w 5400360"/>
              <a:gd name="textAreaTop" fmla="*/ 0 h 1511280"/>
              <a:gd name="textAreaBottom" fmla="*/ 1511640 h 151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578" y="0"/>
                </a:lnTo>
                <a:lnTo>
                  <a:pt x="21600" y="10800"/>
                </a:lnTo>
                <a:lnTo>
                  <a:pt x="18578" y="21600"/>
                </a:lnTo>
                <a:lnTo>
                  <a:pt x="0" y="21600"/>
                </a:lnTo>
                <a:lnTo>
                  <a:pt x="3022" y="10800"/>
                </a:lnTo>
                <a:close/>
              </a:path>
            </a:pathLst>
          </a:custGeom>
          <a:solidFill>
            <a:srgbClr val="5a605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альные (специфические) компетенции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необходимые только какой-то определённой категории сотрудников (например: менеджеры по продажам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Табличка 10"/>
          <p:cNvSpPr/>
          <p:nvPr/>
        </p:nvSpPr>
        <p:spPr>
          <a:xfrm>
            <a:off x="324000" y="2060640"/>
            <a:ext cx="2303280" cy="3816360"/>
          </a:xfrm>
          <a:custGeom>
            <a:avLst/>
            <a:gdLst>
              <a:gd name="textAreaLeft" fmla="*/ 271440 w 2303280"/>
              <a:gd name="textAreaRight" fmla="*/ 2031840 w 2303280"/>
              <a:gd name="textAreaTop" fmla="*/ 271440 h 3816360"/>
              <a:gd name="textAreaBottom" fmla="*/ 3544920 h 3816360"/>
            </a:gdLst>
            <a:ahLst/>
            <a:rect l="textAreaLeft" t="textAreaTop" r="textAreaRight" b="textAreaBottom"/>
            <a:pathLst>
              <a:path w="21600" h="35787">
                <a:moveTo>
                  <a:pt x="3600" y="0"/>
                </a:moveTo>
                <a:arcTo wR="3600" hR="3600" stAng="0" swAng="5400000"/>
                <a:lnTo>
                  <a:pt x="0" y="32187"/>
                </a:lnTo>
                <a:arcTo wR="3600" hR="3600" stAng="16200000" swAng="5400000"/>
                <a:lnTo>
                  <a:pt x="18000" y="35787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дель Компетенций,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описывает качества, необходимые персоналу в данной компании для того, чтобы быть успешны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модели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3" name="TextBox 10"/>
          <p:cNvSpPr/>
          <p:nvPr/>
        </p:nvSpPr>
        <p:spPr>
          <a:xfrm>
            <a:off x="468360" y="657216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Рисунок 1" descr="Описание: Разработка модели компетенций"/>
          <p:cNvPicPr/>
          <p:nvPr/>
        </p:nvPicPr>
        <p:blipFill>
          <a:blip r:embed="rId2"/>
          <a:stretch/>
        </p:blipFill>
        <p:spPr>
          <a:xfrm>
            <a:off x="142920" y="1127160"/>
            <a:ext cx="8831160" cy="57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3"/>
          <p:cNvSpPr/>
          <p:nvPr/>
        </p:nvSpPr>
        <p:spPr>
          <a:xfrm>
            <a:off x="0" y="304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ределение требова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бочего места к сотрудник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304920" y="1187280"/>
            <a:ext cx="8534160" cy="5094720"/>
          </a:xfrm>
          <a:prstGeom prst="rect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1. Профессиональны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образова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таж работы общий и по специальност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онкретные навыки и умения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3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наличие официальных документов (лицензия, сертификат и др.)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2. Личност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нешний вид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интеллектуальные качеств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качества характер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3. Биографические и ситуационные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возраст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л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емейное положени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подданство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lnSpc>
                <a:spcPct val="5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место жительств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Умение работать в команде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0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0EE0-57FD-407A-ACE1-BEBBE04B81EC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"/>
          <p:cNvSpPr/>
          <p:nvPr/>
        </p:nvSpPr>
        <p:spPr>
          <a:xfrm>
            <a:off x="900000" y="1281240"/>
            <a:ext cx="748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обственные идеи по поводу решения задач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являет интерес к точке зрения членов коман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группе достичь результат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ит вклад друг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ится к достижению консенсус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возникновения конфликта стремится его разрешать и др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027"/>
          <p:cNvSpPr/>
          <p:nvPr/>
        </p:nvSpPr>
        <p:spPr>
          <a:xfrm>
            <a:off x="0" y="304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р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28"/>
          <p:cNvSpPr/>
          <p:nvPr/>
        </p:nvSpPr>
        <p:spPr>
          <a:xfrm>
            <a:off x="304920" y="1197000"/>
            <a:ext cx="8610480" cy="566208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Эффективность в работе с людь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едставлять организацию на всех уровнях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доброжелательное отношение к подчиненны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умение сотрудничать с другими подразделениями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принимать реше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быстро усваивать новые знания и концепции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широкого взгляда на проблему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выявить ключевые моменты сложной проблемы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Личные каче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-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ибкость в подходе к проблеме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отовность принять ответственность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6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способность работать в чрезвычайных обстоятельствах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838080" y="2286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чностная спецификация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52280" y="123048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54000"/>
          </a:bodyPr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чностная спецификац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, описывающий параметры, которым должен обладать работник для успешного выполнения работ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5040" indent="-1850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к Роджер в 1930 г. «План семи пунктов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533520" y="2379600"/>
            <a:ext cx="2209680" cy="379692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743200" y="2379600"/>
            <a:ext cx="5638680" cy="37969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уемые каче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Line 8"/>
          <p:cNvSpPr/>
          <p:nvPr/>
        </p:nvSpPr>
        <p:spPr>
          <a:xfrm>
            <a:off x="762120" y="2836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Line 9"/>
          <p:cNvSpPr/>
          <p:nvPr/>
        </p:nvSpPr>
        <p:spPr>
          <a:xfrm>
            <a:off x="3048120" y="23796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10"/>
          <p:cNvSpPr/>
          <p:nvPr/>
        </p:nvSpPr>
        <p:spPr>
          <a:xfrm>
            <a:off x="762120" y="3218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Line 11"/>
          <p:cNvSpPr/>
          <p:nvPr/>
        </p:nvSpPr>
        <p:spPr>
          <a:xfrm>
            <a:off x="762120" y="3598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Line 12"/>
          <p:cNvSpPr/>
          <p:nvPr/>
        </p:nvSpPr>
        <p:spPr>
          <a:xfrm>
            <a:off x="45720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762120" y="3979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762120" y="4361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762120" y="474192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762120" y="512280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762120" y="5504040"/>
            <a:ext cx="739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00800" y="28368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3277080" y="2913120"/>
            <a:ext cx="9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5029920" y="2913120"/>
            <a:ext cx="97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аемы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6475320" y="2882880"/>
            <a:ext cx="1611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каза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682920" y="3218040"/>
            <a:ext cx="178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Физический обли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691560" y="3598920"/>
            <a:ext cx="130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Достиж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685800" y="3979800"/>
            <a:ext cx="195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Общая понятливо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26"/>
          <p:cNvSpPr/>
          <p:nvPr/>
        </p:nvSpPr>
        <p:spPr>
          <a:xfrm>
            <a:off x="699480" y="4361040"/>
            <a:ext cx="239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Специальные способ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 Box 27"/>
          <p:cNvSpPr/>
          <p:nvPr/>
        </p:nvSpPr>
        <p:spPr>
          <a:xfrm>
            <a:off x="693360" y="4741920"/>
            <a:ext cx="110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Интерес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 Box 28"/>
          <p:cNvSpPr/>
          <p:nvPr/>
        </p:nvSpPr>
        <p:spPr>
          <a:xfrm>
            <a:off x="684720" y="5122800"/>
            <a:ext cx="163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Черты характер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29"/>
          <p:cNvSpPr/>
          <p:nvPr/>
        </p:nvSpPr>
        <p:spPr>
          <a:xfrm>
            <a:off x="685440" y="5580000"/>
            <a:ext cx="17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Внешние услов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етенция «Результатив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оугольник 2"/>
          <p:cNvSpPr/>
          <p:nvPr/>
        </p:nvSpPr>
        <p:spPr>
          <a:xfrm>
            <a:off x="250920" y="112536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ивност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ценка вклада должностного лица в результаты работы структурного подразделения и/или организац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08000" y="1787400"/>
          <a:ext cx="8928000" cy="4743720"/>
        </p:xfrm>
        <a:graphic>
          <a:graphicData uri="http://schemas.openxmlformats.org/drawingml/2006/table">
            <a:tbl>
              <a:tblPr/>
              <a:tblGrid>
                <a:gridCol w="295200"/>
                <a:gridCol w="8042400"/>
                <a:gridCol w="590400"/>
              </a:tblGrid>
              <a:tr h="3207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уров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ал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в рамках своих должностных обязан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а взаимосвязанных участках работ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нескольких должносте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бригады, сектор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частка, групп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цеха, отдела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управления, службы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департамента, дирек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ивает точное и своевременное достижение требуемых результатов предприятия, организаци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9320" rIns="4932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9320" marR="49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250920" y="1486080"/>
          <a:ext cx="8713800" cy="5157720"/>
        </p:xfrm>
        <a:graphic>
          <a:graphicData uri="http://schemas.openxmlformats.org/drawingml/2006/table">
            <a:tbl>
              <a:tblPr/>
              <a:tblGrid>
                <a:gridCol w="415800"/>
                <a:gridCol w="3395520"/>
                <a:gridCol w="546120"/>
                <a:gridCol w="544680"/>
                <a:gridCol w="544320"/>
                <a:gridCol w="544680"/>
                <a:gridCol w="544680"/>
                <a:gridCol w="544320"/>
                <a:gridCol w="544680"/>
                <a:gridCol w="544320"/>
                <a:gridCol w="544680"/>
              </a:tblGrid>
              <a:tr h="286920"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№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Критерии оцен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лох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Хорош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6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Управлен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епень выраженности лид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обходимые знания и навык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организовать рабо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овести дело до конц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ебова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шительность, смелость в принятии реш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едование миссии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собность к разумному риск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действовать в нестандартных ситуация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организовать взаимодействие с другими подразделениям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92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рпимость к разным точкам зр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ритетность (в т.ч. вне Компании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6200">
                <a:tc>
                  <a:txBody>
                    <a:bodyPr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мение повести за собой люд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грамма для менеджер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324000" y="1197000"/>
          <a:ext cx="8584920" cy="5361120"/>
        </p:xfrm>
        <a:graphic>
          <a:graphicData uri="http://schemas.openxmlformats.org/drawingml/2006/table">
            <a:tbl>
              <a:tblPr/>
              <a:tblGrid>
                <a:gridCol w="411120"/>
                <a:gridCol w="3346200"/>
                <a:gridCol w="534960"/>
                <a:gridCol w="535320"/>
                <a:gridCol w="537840"/>
                <a:gridCol w="535320"/>
                <a:gridCol w="537840"/>
                <a:gridCol w="538200"/>
                <a:gridCol w="534960"/>
                <a:gridCol w="538200"/>
                <a:gridCol w="534960"/>
              </a:tblGrid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ступ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равед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данность Компан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язательность, верность слов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5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ес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рядоч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Интеллектуальные; Эвристическ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культура, воспита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к учебе, знания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b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Arial Cyr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оваторство, инициатива, креатив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тремление готовить себе смен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уди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щая грамо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рально - нравственны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путац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Психо - физические качест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80"/>
                          </a:solidFill>
                          <a:latin typeface="Arial"/>
                        </a:rPr>
                        <a:t>Средний бал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560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авновешен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704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ботоспособность, вынослив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6320">
                <a:tc>
                  <a:txBody>
                    <a:bodyPr anchor="t">
                      <a:noAutofit/>
                    </a:bodyPr>
                    <a:p>
                      <a:pPr algn="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олерант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-менедже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73" name="Object 5"/>
          <p:cNvGraphicFramePr/>
          <p:nvPr/>
        </p:nvGraphicFramePr>
        <p:xfrm>
          <a:off x="1712880" y="1341360"/>
          <a:ext cx="6819840" cy="5075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12880" y="1341360"/>
                    <a:ext cx="6819840" cy="507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Text Box 7"/>
          <p:cNvSpPr/>
          <p:nvPr/>
        </p:nvSpPr>
        <p:spPr>
          <a:xfrm>
            <a:off x="228600" y="1197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дура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4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0B9A-5161-422B-B681-9B8A868CF1B2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357120" y="1446840"/>
            <a:ext cx="8429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цедура оценки руководителей носит, как правило, комплексный характер, проводится периодически и включает в себ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о результатам деятель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чаще всего на основе системы ключевых показателей эффективности)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уровня профессиональных и общих знаний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(например, методом компьютерного тестирования), а такж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ценку профессиональных и личностных качеств руководителя   вышестоящими руководителями, коллегами и подчиненными сотрудниками (на основе профиля компетенций, путем составления профессиограмм или другим способом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Object 5"/>
          <p:cNvGraphicFramePr/>
          <p:nvPr/>
        </p:nvGraphicFramePr>
        <p:xfrm>
          <a:off x="2124000" y="958680"/>
          <a:ext cx="6562800" cy="5134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78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958680"/>
                    <a:ext cx="65628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7"/>
          <p:cNvSpPr/>
          <p:nvPr/>
        </p:nvSpPr>
        <p:spPr>
          <a:xfrm>
            <a:off x="228600" y="1143000"/>
            <a:ext cx="19810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  <a:ea typeface="Arial"/>
              </a:rPr>
              <a:t>Красные – слаб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66"/>
                </a:solidFill>
                <a:latin typeface="Calibri"/>
                <a:ea typeface="Arial"/>
              </a:rPr>
              <a:t>Синие – ярко выраженные ка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685800" y="45576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 fontScale="3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фикационно-поведенческий портре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ерческого директор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Box 1"/>
          <p:cNvSpPr/>
          <p:nvPr/>
        </p:nvSpPr>
        <p:spPr>
          <a:xfrm>
            <a:off x="684360" y="2558880"/>
            <a:ext cx="799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Narrow"/>
                <a:ea typeface="Arial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оценки руководителе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5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6684-7375-49BD-B0B0-B4E438FF789C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1"/>
          <p:cNvSpPr/>
          <p:nvPr/>
        </p:nvSpPr>
        <p:spPr>
          <a:xfrm>
            <a:off x="285840" y="1404720"/>
            <a:ext cx="86439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новной целью оценки руководителей является повышение эффективности управленческого труда и направлено на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совершенствование системы подбора, расстановки и ротации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роверку соответствия руководителей занимаемой долж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рост мотивации, личной заинтересованности, инициативы и ответственности руководителей за достижение результатов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овышение квалификации и развитие ключевых компетенций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оптимальное использование экономических стимулов и социальных гаранти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формирование условий для личностного развития руководителей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- выработку и принятие кадровых решений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165A-6CE1-438C-8221-BB0E37CF6330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Стрелка вниз 4" descr=""/>
          <p:cNvPicPr/>
          <p:nvPr/>
        </p:nvPicPr>
        <p:blipFill>
          <a:blip r:embed="rId2"/>
          <a:stretch/>
        </p:blipFill>
        <p:spPr>
          <a:xfrm>
            <a:off x="115920" y="1231920"/>
            <a:ext cx="1279440" cy="5095800"/>
          </a:xfrm>
          <a:prstGeom prst="rect">
            <a:avLst/>
          </a:prstGeom>
          <a:ln w="0">
            <a:noFill/>
          </a:ln>
        </p:spPr>
      </p:pic>
      <p:sp>
        <p:nvSpPr>
          <p:cNvPr id="65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Скругленный прямоугольник 7"/>
          <p:cNvSpPr/>
          <p:nvPr/>
        </p:nvSpPr>
        <p:spPr>
          <a:xfrm>
            <a:off x="1482840" y="148428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́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лат. competere — соответствовать, подходить) — способность применять знания, умения, успешно действовать на основе практического опыта при решении задач общего рода, также в определенной широкой обла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Скругленный прямоугольник 13"/>
          <p:cNvSpPr/>
          <p:nvPr/>
        </p:nvSpPr>
        <p:spPr>
          <a:xfrm>
            <a:off x="1473120" y="4724280"/>
            <a:ext cx="7226280" cy="1368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совокупность взаимосвязанных базовых качеств личности, включающее в себя применение знаний, умений и навыков в качественно – продуктивной деятельности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Скругленный прямоугольник 14"/>
          <p:cNvSpPr/>
          <p:nvPr/>
        </p:nvSpPr>
        <p:spPr>
          <a:xfrm>
            <a:off x="1482840" y="3114720"/>
            <a:ext cx="7337160" cy="136836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– базовое качество индивидуума, включающее в себя совокупность взаимосвязанных качеств личности, необходимых для качественно – продуктивн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70" name="Прямоугольник 3"/>
          <p:cNvSpPr/>
          <p:nvPr/>
        </p:nvSpPr>
        <p:spPr>
          <a:xfrm>
            <a:off x="654120" y="3860640"/>
            <a:ext cx="84978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D7A7-5463-4F1F-87FE-E0BCB97510A0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низ 4"/>
          <p:cNvSpPr/>
          <p:nvPr/>
        </p:nvSpPr>
        <p:spPr>
          <a:xfrm>
            <a:off x="1403280" y="1197000"/>
            <a:ext cx="6337440" cy="936720"/>
          </a:xfrm>
          <a:prstGeom prst="downArrow">
            <a:avLst>
              <a:gd name="adj1" fmla="val 50000"/>
              <a:gd name="adj2" fmla="val 77907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2987640" y="119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ция»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и персонало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0"/>
          <p:cNvSpPr/>
          <p:nvPr/>
        </p:nvSpPr>
        <p:spPr>
          <a:xfrm>
            <a:off x="322200" y="3357720"/>
            <a:ext cx="834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8"/>
          <p:cNvSpPr/>
          <p:nvPr/>
        </p:nvSpPr>
        <p:spPr>
          <a:xfrm>
            <a:off x="395280" y="2276640"/>
            <a:ext cx="223200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сиона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пособность успешно действовать на основе практического опыта, умения и знаний при решении профессиональных задач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9"/>
          <p:cNvSpPr/>
          <p:nvPr/>
        </p:nvSpPr>
        <p:spPr>
          <a:xfrm>
            <a:off x="6516720" y="2276640"/>
            <a:ext cx="215892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ая компетенция организации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совокупность конкурентных преимуществ организации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 главный козыр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конкурентной или гиперконкурентной борьб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Прямоугольник 20"/>
          <p:cNvSpPr/>
          <p:nvPr/>
        </p:nvSpPr>
        <p:spPr>
          <a:xfrm>
            <a:off x="2700360" y="2276640"/>
            <a:ext cx="3743280" cy="3889080"/>
          </a:xfrm>
          <a:prstGeom prst="rect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ция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личностная способность специалиста (сотрудника) решать определенный класс профессиональных задач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управлении персоналом чаще под компетенцией понимают формально описанные требования к личностным, профессиональным и др. качествам кандидата на поступление, сотрудника, или к группе сотрудников компан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ление термина «компетенци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«компетентность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1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Стрелка вправо 7"/>
          <p:cNvSpPr/>
          <p:nvPr/>
        </p:nvSpPr>
        <p:spPr>
          <a:xfrm>
            <a:off x="706320" y="1268280"/>
            <a:ext cx="7962840" cy="165600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окупность компетенций; наличие знаний и опыта, необходимых для эффективной деятельности в заданной предметной области называют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ю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от англ. competence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Стрелка вправо 13"/>
          <p:cNvSpPr/>
          <p:nvPr/>
        </p:nvSpPr>
        <p:spPr>
          <a:xfrm>
            <a:off x="1042920" y="2997360"/>
            <a:ext cx="7626240" cy="165564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потенциальная готовность решать задачи со знанием дел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Стрелка вправо 14"/>
          <p:cNvSpPr/>
          <p:nvPr/>
        </p:nvSpPr>
        <p:spPr>
          <a:xfrm>
            <a:off x="1403280" y="4724280"/>
            <a:ext cx="7265880" cy="16574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— это обладание определённой компетенцией, то есть знаниями и опытом собственной деятельности, позволяющими выносить объективные суждения и принимать точные реше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етентност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0"/>
          <p:cNvSpPr/>
          <p:nvPr/>
        </p:nvSpPr>
        <p:spPr>
          <a:xfrm>
            <a:off x="324000" y="3357720"/>
            <a:ext cx="834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Пятиугольник 4"/>
          <p:cNvSpPr/>
          <p:nvPr/>
        </p:nvSpPr>
        <p:spPr>
          <a:xfrm>
            <a:off x="684360" y="1268280"/>
            <a:ext cx="6624360" cy="865440"/>
          </a:xfrm>
          <a:custGeom>
            <a:avLst/>
            <a:gdLst>
              <a:gd name="textAreaLeft" fmla="*/ 0 w 6624360"/>
              <a:gd name="textAreaRight" fmla="*/ 6624720 w 6624360"/>
              <a:gd name="textAreaTop" fmla="*/ 0 h 865440"/>
              <a:gd name="textAreaBottom" fmla="*/ 86580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0" y="0"/>
                </a:lnTo>
                <a:lnTo>
                  <a:pt x="21600" y="10800"/>
                </a:lnTo>
                <a:lnTo>
                  <a:pt x="2019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амостоятельной познаватель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Пятиугольник 11"/>
          <p:cNvSpPr/>
          <p:nvPr/>
        </p:nvSpPr>
        <p:spPr>
          <a:xfrm>
            <a:off x="1692360" y="5230800"/>
            <a:ext cx="6624720" cy="100656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1006560"/>
              <a:gd name="textAreaBottom" fmla="*/ 1006920 h 1006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959" y="0"/>
                </a:lnTo>
                <a:lnTo>
                  <a:pt x="21600" y="10800"/>
                </a:lnTo>
                <a:lnTo>
                  <a:pt x="1995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 в сфере культурно-досугов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ятиугольник 12"/>
          <p:cNvSpPr/>
          <p:nvPr/>
        </p:nvSpPr>
        <p:spPr>
          <a:xfrm>
            <a:off x="1128600" y="3213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558ed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социально-трудовой деятельности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ятиугольник 17"/>
          <p:cNvSpPr/>
          <p:nvPr/>
        </p:nvSpPr>
        <p:spPr>
          <a:xfrm>
            <a:off x="900000" y="2205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сфере гражданско-общественной деятель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ятиугольник 9"/>
          <p:cNvSpPr/>
          <p:nvPr/>
        </p:nvSpPr>
        <p:spPr>
          <a:xfrm>
            <a:off x="1403280" y="4221000"/>
            <a:ext cx="6624720" cy="936720"/>
          </a:xfrm>
          <a:custGeom>
            <a:avLst/>
            <a:gdLst>
              <a:gd name="textAreaLeft" fmla="*/ 0 w 6624720"/>
              <a:gd name="textAreaRight" fmla="*/ 6625080 w 662472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073" y="0"/>
                </a:lnTo>
                <a:lnTo>
                  <a:pt x="21600" y="10800"/>
                </a:lnTo>
                <a:lnTo>
                  <a:pt x="2007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етентность в бытовой сфер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оненты компетентно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97" name="Прямоугольник 3"/>
          <p:cNvSpPr/>
          <p:nvPr/>
        </p:nvSpPr>
        <p:spPr>
          <a:xfrm>
            <a:off x="324000" y="4491000"/>
            <a:ext cx="8496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10"/>
          <p:cNvSpPr/>
          <p:nvPr/>
        </p:nvSpPr>
        <p:spPr>
          <a:xfrm>
            <a:off x="2268360" y="3473280"/>
            <a:ext cx="8345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Овал 5"/>
          <p:cNvSpPr/>
          <p:nvPr/>
        </p:nvSpPr>
        <p:spPr>
          <a:xfrm>
            <a:off x="826920" y="1197000"/>
            <a:ext cx="2808360" cy="115236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самообразова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900000" y="2421000"/>
            <a:ext cx="2664000" cy="115236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итическое мышлени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Скругленный прямоугольник 7"/>
          <p:cNvSpPr/>
          <p:nvPr/>
        </p:nvSpPr>
        <p:spPr>
          <a:xfrm>
            <a:off x="900000" y="3718080"/>
            <a:ext cx="2735280" cy="1223640"/>
          </a:xfrm>
          <a:prstGeom prst="roundRect">
            <a:avLst>
              <a:gd name="adj" fmla="val 16667"/>
            </a:avLst>
          </a:prstGeom>
          <a:solidFill>
            <a:srgbClr val="a6a6a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устанавливать причинно-следственные связ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с двумя скругленными соседними углами 8"/>
          <p:cNvSpPr/>
          <p:nvPr/>
        </p:nvSpPr>
        <p:spPr>
          <a:xfrm>
            <a:off x="5219640" y="1197000"/>
            <a:ext cx="2952720" cy="1079640"/>
          </a:xfrm>
          <a:prstGeom prst="pie">
            <a:avLst/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организация и самоконтро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Шестиугольник 9"/>
          <p:cNvSpPr/>
          <p:nvPr/>
        </p:nvSpPr>
        <p:spPr>
          <a:xfrm>
            <a:off x="5148360" y="3790800"/>
            <a:ext cx="3024000" cy="115092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6e4e9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а в команд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Прямоугольник с двумя скругленными противолежащими углами 16"/>
          <p:cNvSpPr/>
          <p:nvPr/>
        </p:nvSpPr>
        <p:spPr>
          <a:xfrm>
            <a:off x="5148360" y="2421000"/>
            <a:ext cx="3024000" cy="1224000"/>
          </a:xfrm>
          <a:prstGeom prst="pie">
            <a:avLst/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прогнозировать результаты и возможные последствия разных вариантов реш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араллелограмм 3"/>
          <p:cNvSpPr/>
          <p:nvPr/>
        </p:nvSpPr>
        <p:spPr>
          <a:xfrm>
            <a:off x="826920" y="5111640"/>
            <a:ext cx="2881440" cy="1195560"/>
          </a:xfrm>
          <a:prstGeom prst="parallelogram">
            <a:avLst>
              <a:gd name="adj" fmla="val 24994"/>
            </a:avLst>
          </a:prstGeom>
          <a:solidFill>
            <a:srgbClr val="d9969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оугольник с одним вырезанным углом 10"/>
          <p:cNvSpPr/>
          <p:nvPr/>
        </p:nvSpPr>
        <p:spPr>
          <a:xfrm>
            <a:off x="5219640" y="5111640"/>
            <a:ext cx="3168720" cy="1197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 находить, формулировать и решать проблем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компетенц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468360" y="115920"/>
            <a:ext cx="1546200" cy="1011240"/>
          </a:xfrm>
          <a:prstGeom prst="rect">
            <a:avLst/>
          </a:prstGeom>
          <a:ln w="0">
            <a:noFill/>
          </a:ln>
        </p:spPr>
      </p:pic>
      <p:sp>
        <p:nvSpPr>
          <p:cNvPr id="109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55ED0-0B85-4A3A-9771-13C63FF593FE}" type="slidenum">
              <a:rPr b="0" lang="ru-RU" sz="1200" spc="-1" strike="noStrike">
                <a:solidFill>
                  <a:srgbClr val="464653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Волна 8"/>
          <p:cNvSpPr/>
          <p:nvPr/>
        </p:nvSpPr>
        <p:spPr>
          <a:xfrm>
            <a:off x="179280" y="1197000"/>
            <a:ext cx="8569440" cy="1079640"/>
          </a:xfrm>
          <a:custGeom>
            <a:avLst/>
            <a:gdLst>
              <a:gd name="textAreaLeft" fmla="*/ 0 w 8569440"/>
              <a:gd name="textAreaRight" fmla="*/ 8569800 w 8569440"/>
              <a:gd name="textAreaTop" fmla="*/ 270000 h 1079640"/>
              <a:gd name="textAreaBottom" fmla="*/ 81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ормацион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пособность самостоятельно искать, анализировать, отбирать, обрабатывать и передавать необходимую информацию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Волна 11"/>
          <p:cNvSpPr/>
          <p:nvPr/>
        </p:nvSpPr>
        <p:spPr>
          <a:xfrm>
            <a:off x="179280" y="5229360"/>
            <a:ext cx="8640720" cy="1295280"/>
          </a:xfrm>
          <a:custGeom>
            <a:avLst/>
            <a:gdLst>
              <a:gd name="textAreaLeft" fmla="*/ 0 w 8640720"/>
              <a:gd name="textAreaRight" fmla="*/ 8641080 w 86407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муникатив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владение навыками взаимодействия с окружающими людьми, умение работать в группе. Знакомство с различными социальными ролям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Волна 11"/>
          <p:cNvSpPr/>
          <p:nvPr/>
        </p:nvSpPr>
        <p:spPr>
          <a:xfrm>
            <a:off x="179280" y="2060640"/>
            <a:ext cx="8569440" cy="3384360"/>
          </a:xfrm>
          <a:custGeom>
            <a:avLst/>
            <a:gdLst>
              <a:gd name="textAreaLeft" fmla="*/ 222120 w 8569440"/>
              <a:gd name="textAreaRight" fmla="*/ 8791920 w 8569440"/>
              <a:gd name="textAreaTop" fmla="*/ 846000 h 3384360"/>
              <a:gd name="textAreaBottom" fmla="*/ 2538360 h 3384360"/>
            </a:gdLst>
            <a:ahLst/>
            <a:rect l="textAreaLeft" t="textAreaTop" r="textAreaRight" b="textAreaBottom"/>
            <a:pathLst>
              <a:path w="21600" h="21600">
                <a:moveTo>
                  <a:pt x="560" y="2700"/>
                </a:moveTo>
                <a:cubicBezTo>
                  <a:pt x="7480" y="-6865"/>
                  <a:pt x="14680" y="12265"/>
                  <a:pt x="21600" y="2700"/>
                </a:cubicBezTo>
                <a:lnTo>
                  <a:pt x="21040" y="18900"/>
                </a:lnTo>
                <a:cubicBezTo>
                  <a:pt x="14120" y="28465"/>
                  <a:pt x="6920" y="9335"/>
                  <a:pt x="0" y="18900"/>
                </a:cubicBezTo>
                <a:close/>
              </a:path>
            </a:pathLst>
          </a:custGeom>
          <a:solidFill>
            <a:srgbClr val="31859c"/>
          </a:solidFill>
          <a:ln w="19080">
            <a:solidFill>
              <a:srgbClr val="525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о-познавательная компетенция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— это совокупность умений и навыков познавательной деятельности. Владение механизмами целеполагания, планирования, анализа, рефлексии, самооценки успешности собственной деятельности. Владение приемами действий в нестандартных ситуациях, эвристическими методами решения проблем. Владение измерительными навыками, использование статистических и иных методов познани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9T14:48:21Z</dcterms:created>
  <dc:creator>Хорошильцева Наталья Анатольевна</dc:creator>
  <dc:description/>
  <dc:language>en-US</dc:language>
  <cp:lastModifiedBy>marshev vadim ivanovich</cp:lastModifiedBy>
  <cp:lastPrinted>2015-04-19T17:12:16Z</cp:lastPrinted>
  <dcterms:modified xsi:type="dcterms:W3CDTF">2018-09-22T06:39:55Z</dcterms:modified>
  <cp:revision>31</cp:revision>
  <dc:subject/>
  <dc:title>Презентация PowerPoint</dc:title>
</cp:coreProperties>
</file>