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90BA-DDD2-4348-9563-F1A2F2D9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0E2F-527B-43C8-BA06-0BDCD232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ACD920-C4DF-4948-9F24-CF14CE08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6F548F-2940-4E50-9D0E-D09A8C1BA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B42E9-F7EF-4A4F-8EE4-2520365D7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B6FB56-18F5-41E2-BCAB-9013B84C1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FC00C2-E905-41D7-9815-D5EA4214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A8D43-AF07-4620-8A49-0EE61A36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9440D-764D-4A56-BCB1-CD798EAB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4268D6-F1F7-4B8E-B833-8985A8735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EFB5E2-634C-4985-8211-1C74B121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F73B63-0537-459B-B353-48D5362A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A7DF7-D589-4568-92CF-7A14EF145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5F0240-A0FE-4598-98F0-1B70635B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A3EEB7-FBA2-4521-93A3-07EC5FFF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B87CD-0123-4E1F-AFE4-4B821C7B7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5030BE-D461-4D9B-8859-BD237A92A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FF9D64-6958-4C52-9DE2-558C5A77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5A52EA-3D07-46A9-AACC-1200AA85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5C4C5B-AC55-4747-9DC7-AC660A0D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2C0B5-FB14-4DA0-99D8-BEB247D6A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AACB0-B01F-41A3-B33E-82DF96097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835588-E785-42CA-909F-886B66ECD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62BC-7108-4D29-817A-1323F4887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A3D351-7221-48FD-BB0A-CA66EAAB7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FFE865-9144-4E5A-B863-ECCC5322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EA5275-00AB-46C7-8BF5-6A747F15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7A6AA-1157-4E83-BF0B-5768ECA2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09C46-395B-48DD-BC54-32502613E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0C7B7-6114-42A1-8A61-7AADFBFEC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FCCFCF-F920-4580-B070-C64AF5D82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B60EA0-EC32-4F73-975C-6773158F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188F9-4B37-45DB-90E2-3EC3D83A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1DC705-B318-46B6-92F7-FA9A376E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AA5E0-34C7-493B-B298-0B98AAD75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0BB04-1EED-44F8-8635-D54DA77B0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5CF2BC-5FAA-455A-A081-B3D1C0536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B73D3A-5E3A-4284-8CA9-8AACAED0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A8527D-D860-43A4-B1EF-CA091D92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2004E-F8D6-423F-8954-E594DE328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384B66-90C6-424A-A93D-CA03377C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634A71-8D39-4B5E-B821-DC3C53DFE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39ED8-327F-4F96-8F55-36594092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4135D-D940-41CF-BAFB-104CB946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116112-8C43-4C16-8C7F-E59392456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EF769-AC4F-4C11-B707-7CD7785B9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72380E-C99C-4ADD-AC67-29A4A6ADA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172AC-4F55-4C34-99D5-6AB167290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4FC775-B40C-46B0-BCA2-B34866CAC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F8529E-DCF7-4BCF-85D4-40268D592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FF92A-1F51-4B9A-B312-95270CF4A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1AC2AD-FB2F-4E57-83CD-20D4587A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04D554-FE25-4A2C-867A-FD0178C5B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C2A609-9049-494E-9848-D546DE9A8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DB3622-0392-448B-892E-FFD96073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CD8141-00EC-4FF0-86B0-E67768C2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531E-A746-44EE-B18E-D4773F1F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557A97-6C53-4EDE-8A9B-19F5793F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385901-6C00-4E30-8C1B-CFD1AFF0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B0DA76-AA60-45FD-85E8-3EAC617D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DDDDC6-50AE-48C8-9CB4-2635BC9C8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24E80E-2890-42EF-B70D-04BFE5EA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0A97DF-8AA1-445B-9CC3-352459F73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731DE1-EE2E-453B-A4F7-A83A8160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5E4D9-44FD-45E2-8F21-5179761AA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096F5-D592-4F8E-9155-3764861C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08051-E190-41BE-897F-7CCCFC98F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110B8-AB6B-4DCD-90E5-57CE5EE6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8FC4-A574-4693-A4BE-E7AFDFB21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EE641-68FB-4B53-987E-A38C49536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A2C6-8C8B-4C25-B8CC-30EFF2107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879C-6C7C-4AB2-A889-921A692AD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7F56-1ADB-4C40-A2F9-DA2081114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93EC-B664-47A8-AF29-F376DED2E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2ADCA-44C2-45DF-8129-AC114BFBD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0F405-6E4A-4F36-9649-FEF2F1B43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EE74C-345D-40CE-929D-D044BF7A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6ADDA0-5ACA-4D02-B615-3A1EB408D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40DBF-5B92-4203-8FFD-272C2011F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1FCF-C478-4CF3-ACFE-F2687DE0F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A7841-03AC-4946-A649-1E282809E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4D56D-B4D4-49C1-896C-808E6BFA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1D789-C486-4DEB-AF1D-6530B649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766FD-D7B1-497B-B9DD-5619AAF4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DEDD1-F23A-4F4D-A38B-24217D98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50A84-6BAD-4F7F-83F3-8B47EA2A9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F4756-5B06-4458-9631-349050054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0AF264-DB0A-4FA1-88D7-768FEAD34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3FE19-4DB4-466D-B8E7-A6C3332CA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4DAE4-8208-460B-8D11-68B7AEDB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A428-19AA-4083-A3A2-D6A8F3391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D60D8-00BB-4C40-998B-AF5B16F36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67BB2-3CD3-4218-A02C-3BC1656E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562BDA-FC0A-4F41-8AC5-9B518CCDA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160B3-0D8F-41E7-849B-2A85076C7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38B88-D9C7-4CA6-94C1-31AF0BD8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976DE4-9DF5-4863-8826-E7C96BDB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037AE-831A-4FE4-9EAA-7D9EA439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1643EB-5622-49E5-A356-038C726D5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7BD5D-A533-4892-ACF0-65ECFD557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B74DAF-8E30-4351-9BDA-CD5A52822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FE16-FEF9-4555-9082-247CD04CE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3F1F0-DC6B-4B14-B23B-B14F3D89F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23365A-7430-4582-B90A-D4BD566A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05746-9CC2-4EF4-876E-A86F0345A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0FD65-197B-4334-A22F-A259F234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A1FE14-74FE-4A8C-AA6B-6346AC739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47EFE-2016-47B4-8653-07169878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A3BC96-CD0A-45EE-AF6A-942DD554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93628D-EB4E-425A-A80B-36E34BDFA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3D0EF-ECE9-41F0-BA58-DB8483347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C08FF5-D810-4A70-9F4B-8667A794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AA33-08A6-45E5-B374-27D07D77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A234D-7886-4C0F-B79E-38F446109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C1359-9D2B-43FE-8DC0-DA8DEBF24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F2DE2-0D32-497B-B445-1F0A6D0DF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FA5D9-B729-4BB8-AB93-54F44D47F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839FF-D683-4646-843E-8D540485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2A7486-F7A3-4540-9E74-E276B0042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B5B94-BCAB-4F74-AF58-F52F2550C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1D047-3B76-40EA-84CD-35FFF6D0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79475B-548C-404C-8BDA-5E1EF973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A1827-1A03-404E-8549-F42E9C30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7822-F5A7-4E45-880B-A85FE614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0221FF-0CDC-442A-B65D-4F736FFAC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937DC-591B-4B04-B59E-36C35A81F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F51F9-1A22-4828-85D9-3A662E2A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35FAB9-DD72-45F0-9A70-ED049CDA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4F2B8-9B5A-4336-BA24-62954112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79556-3A7F-49F3-AEFD-E0300ABC4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BAC08-EC9E-4E77-BB54-FDDD51E7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87ECF3-1160-4907-B3F2-8F64E560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7AA2F7-6AC5-40A8-B31D-ACDAE437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E3A1DD-FB7A-416E-ADBB-B97FC74D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121D-5617-4D04-8A09-0E177804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227B5-AA38-4CE7-B87E-8FF24F37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939655-1F04-4A13-906B-2C331628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BB3C6-73BD-4B21-BD1C-6A0615DA3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C39CE0-A43D-43B2-8BEA-CC1AA4BDF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E9277-206D-4DDE-8369-DA13AD38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E55892-5480-4CBB-9C7F-9435C9EE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F0D2F-0318-4D4A-B1B4-8401453BD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EE6DA5-5346-42F9-AA6B-85DA9532D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101EC4-E93B-4B10-A9F7-19BCD38C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40A0AF-2184-4F26-BFDF-BFD383EC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93F5A-FEB5-4444-B333-44F41CC3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D24847-AE40-4AE0-A454-6C8633D6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542BD-4CF8-4952-BC84-852C4FC6A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DDDEB1-B44C-4F88-88ED-1E64A73A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7EF4C-74C6-450B-95E3-011AB4A6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170EA3-F312-44F4-A406-A390ADB31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C197D-5775-424A-BF36-8C8AC072C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AD9806-E52D-4710-B325-043DB72E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644A3-F75B-4FD2-9ECC-3BAD4CA3B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F84B15-C513-49DF-BD3D-300DD27A3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DB5F91-87ED-4331-8D29-E63ED643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6884D9-D362-4623-9200-854F383FF8D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01ED35-693B-4EB2-B96A-F296B0353D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8BF661-8797-4CEB-B87F-1C28391961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03564D1-00CB-4420-B500-989E26406E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AE017F-6A90-4F26-B77D-BCC3206EF6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13C966-39FB-4AAF-9FB2-E3A53F441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010353-A78D-4E1D-9C99-6675ED8F23A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9969A2-75A7-4CC8-8229-9E259D18AD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DA4C44-84D5-42E2-B5BF-8B53A114D5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448E60-AC97-420E-80D7-66A55FA89D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6A64C9-AA18-4FB4-BF45-5E76EC1F35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4980B1-B583-4FBA-AE52-9DC2B32A39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B8165F-5299-4908-A127-488A17A278C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97B1F5-035E-4698-BF45-595863B1FB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6653EB-4CD6-4D68-B5D1-4AC7D4BC913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56016A-43CB-4345-91BF-24F9BD7B4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4398DC-0E90-46AD-B76E-3ABFBA7F888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FB3E10-6C3E-44FE-894B-7D08690AFE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9833D2-27B0-4D87-AE4D-EC465C32130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0A74DD-C2DB-47BF-A369-153FFA121F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B88E17D-58AF-4E1F-B4D5-75D39792E4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4564F1-F067-4AA1-B13D-16688E91E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AEC24F-3B8A-4430-9E91-F58E75CCAB4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D84622-A49A-441B-8902-59384EFC17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A16D1B-0352-4442-B02D-2F36D2D252D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DF671D-8170-485D-9483-3E3F5AFF5BB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esavelyonok@hse.r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ubtitle 2"/>
          <p:cNvSpPr/>
          <p:nvPr/>
        </p:nvSpPr>
        <p:spPr>
          <a:xfrm>
            <a:off x="1371600" y="6467400"/>
            <a:ext cx="6400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 МЕЖДУНАРОДНАЯ КОНФЕРЕНЦИЯ по ИСТОРИИ УПРАВЛЕНЧЕСКОЙ МЫСЛИ И БИЗНЕСА , Москва, 21.09.2018 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ubtitle 2"/>
          <p:cNvSpPr/>
          <p:nvPr/>
        </p:nvSpPr>
        <p:spPr>
          <a:xfrm>
            <a:off x="614520" y="2954160"/>
            <a:ext cx="791496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yriad Pro Semibold"/>
              </a:rPr>
              <a:t>Какой менеджмент нам нужен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Subtitle 2"/>
          <p:cNvSpPr/>
          <p:nvPr/>
        </p:nvSpPr>
        <p:spPr>
          <a:xfrm>
            <a:off x="766800" y="4587840"/>
            <a:ext cx="79153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800"/>
            </a:br>
            <a:r>
              <a:rPr b="1" lang="ru-RU" sz="1400" spc="-1" strike="noStrike">
                <a:solidFill>
                  <a:srgbClr val="000000"/>
                </a:solidFill>
                <a:latin typeface="Myriad Pro Semibold"/>
              </a:rPr>
              <a:t>к.э.н., доцент Института образования НИУ ВШ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Myriad Pro Semibold"/>
              </a:rPr>
              <a:t>Е.А.Савелёнок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Subtitle 2"/>
          <p:cNvSpPr/>
          <p:nvPr/>
        </p:nvSpPr>
        <p:spPr>
          <a:xfrm>
            <a:off x="1371600" y="6467400"/>
            <a:ext cx="64008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201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www.hse.ru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Subtitle 2"/>
          <p:cNvSpPr/>
          <p:nvPr/>
        </p:nvSpPr>
        <p:spPr>
          <a:xfrm>
            <a:off x="614520" y="2727360"/>
            <a:ext cx="8035920" cy="23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yriad Pro"/>
              </a:rPr>
              <a:t>СПАСИБО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Myriad Pro"/>
              </a:rPr>
              <a:t>м.</a:t>
            </a:r>
            <a:r>
              <a:rPr b="1" lang="en-US" sz="2000" spc="-1" strike="noStrike">
                <a:solidFill>
                  <a:srgbClr val="000000"/>
                </a:solidFill>
                <a:latin typeface="Myriad Pro"/>
              </a:rPr>
              <a:t>(</a:t>
            </a:r>
            <a:r>
              <a:rPr b="1" lang="ru-RU" sz="2000" spc="-1" strike="noStrike">
                <a:solidFill>
                  <a:srgbClr val="000000"/>
                </a:solidFill>
                <a:latin typeface="Myriad Pro"/>
              </a:rPr>
              <a:t>903</a:t>
            </a:r>
            <a:r>
              <a:rPr b="1" lang="en-US" sz="2000" spc="-1" strike="noStrike">
                <a:solidFill>
                  <a:srgbClr val="000000"/>
                </a:solidFill>
                <a:latin typeface="Myriad Pro"/>
              </a:rPr>
              <a:t>) 134</a:t>
            </a:r>
            <a:r>
              <a:rPr b="1" lang="ru-RU" sz="2000" spc="-1" strike="noStrike">
                <a:solidFill>
                  <a:srgbClr val="000000"/>
                </a:solidFill>
                <a:latin typeface="Myriad Pro"/>
              </a:rPr>
              <a:t>-89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Myriad Pro"/>
                <a:hlinkClick r:id="rId2"/>
              </a:rPr>
              <a:t>esavelyonok@hse.ru</a:t>
            </a:r>
            <a:r>
              <a:rPr b="1" lang="en-US" sz="2000" spc="-1" strike="noStrike">
                <a:solidFill>
                  <a:srgbClr val="000000"/>
                </a:solidFill>
                <a:latin typeface="Myriad Pr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6" name="Subtitle 2"/>
          <p:cNvGrpSpPr/>
          <p:nvPr/>
        </p:nvGrpSpPr>
        <p:grpSpPr>
          <a:xfrm>
            <a:off x="255600" y="2133720"/>
            <a:ext cx="8791560" cy="2614320"/>
            <a:chOff x="255600" y="2133720"/>
            <a:chExt cx="8791560" cy="2614320"/>
          </a:xfrm>
        </p:grpSpPr>
        <p:pic>
          <p:nvPicPr>
            <p:cNvPr id="537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790120" cy="261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/>
            <p:nvPr/>
          </p:nvSpPr>
          <p:spPr>
            <a:xfrm>
              <a:off x="255600" y="2133720"/>
              <a:ext cx="8791560" cy="261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Не тот мне знаток в корабле, кто перечел и перемерял каюты и веревки, но кто познал силу и природу корабля: тот, разумея компас, разумеет путь его и все околичн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Григорий Сковород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Subtitle 2"/>
          <p:cNvGrpSpPr/>
          <p:nvPr/>
        </p:nvGrpSpPr>
        <p:grpSpPr>
          <a:xfrm>
            <a:off x="255600" y="2133720"/>
            <a:ext cx="8639280" cy="1871640"/>
            <a:chOff x="255600" y="2133720"/>
            <a:chExt cx="8639280" cy="1871640"/>
          </a:xfrm>
        </p:grpSpPr>
        <p:pic>
          <p:nvPicPr>
            <p:cNvPr id="543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6392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255600" y="2133720"/>
              <a:ext cx="8636040" cy="18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Россией управлять совсем не сложно, но совершенно бесполезно [бессмысленно]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Александр 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II</a:t>
              </a: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8" name="Subtitle 2"/>
          <p:cNvGrpSpPr/>
          <p:nvPr/>
        </p:nvGrpSpPr>
        <p:grpSpPr>
          <a:xfrm>
            <a:off x="255600" y="2133720"/>
            <a:ext cx="8639280" cy="1871640"/>
            <a:chOff x="255600" y="2133720"/>
            <a:chExt cx="8639280" cy="1871640"/>
          </a:xfrm>
        </p:grpSpPr>
        <p:pic>
          <p:nvPicPr>
            <p:cNvPr id="549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6392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" name=""/>
            <p:cNvSpPr/>
            <p:nvPr/>
          </p:nvSpPr>
          <p:spPr>
            <a:xfrm>
              <a:off x="255600" y="2133720"/>
              <a:ext cx="8636040" cy="18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У каждого из нас есть только одно истинное призвание – найти путь к самому себ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Герман Гесс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4" name="Subtitle 2"/>
          <p:cNvGrpSpPr/>
          <p:nvPr/>
        </p:nvGrpSpPr>
        <p:grpSpPr>
          <a:xfrm>
            <a:off x="255600" y="2133720"/>
            <a:ext cx="8639280" cy="1871640"/>
            <a:chOff x="255600" y="2133720"/>
            <a:chExt cx="8639280" cy="1871640"/>
          </a:xfrm>
        </p:grpSpPr>
        <p:pic>
          <p:nvPicPr>
            <p:cNvPr id="555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6392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6" name=""/>
            <p:cNvSpPr/>
            <p:nvPr/>
          </p:nvSpPr>
          <p:spPr>
            <a:xfrm>
              <a:off x="255600" y="2133720"/>
              <a:ext cx="8636040" cy="18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Я 30 лет изучаю менеджмент, а ты меня тут учишь жизни 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(фраза из жизни)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Subtitle 2"/>
          <p:cNvGrpSpPr/>
          <p:nvPr/>
        </p:nvGrpSpPr>
        <p:grpSpPr>
          <a:xfrm>
            <a:off x="255600" y="2133720"/>
            <a:ext cx="8639280" cy="1871640"/>
            <a:chOff x="255600" y="2133720"/>
            <a:chExt cx="8639280" cy="1871640"/>
          </a:xfrm>
        </p:grpSpPr>
        <p:pic>
          <p:nvPicPr>
            <p:cNvPr id="561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63928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"/>
            <p:cNvSpPr/>
            <p:nvPr/>
          </p:nvSpPr>
          <p:spPr>
            <a:xfrm>
              <a:off x="255600" y="2133720"/>
              <a:ext cx="8636040" cy="18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Человек, рожденный от жены, краткодневен и пресыщен печал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Книга Иов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Subtitle 2"/>
          <p:cNvGrpSpPr/>
          <p:nvPr/>
        </p:nvGrpSpPr>
        <p:grpSpPr>
          <a:xfrm>
            <a:off x="255600" y="2133720"/>
            <a:ext cx="8717040" cy="2786040"/>
            <a:chOff x="255600" y="2133720"/>
            <a:chExt cx="8717040" cy="2786040"/>
          </a:xfrm>
        </p:grpSpPr>
        <p:pic>
          <p:nvPicPr>
            <p:cNvPr id="567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71380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"/>
            <p:cNvSpPr/>
            <p:nvPr/>
          </p:nvSpPr>
          <p:spPr>
            <a:xfrm>
              <a:off x="255600" y="2133720"/>
              <a:ext cx="8717040" cy="27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В основе свободы и автономности индивида лежит … простое эмпирическое осознание, непередаваемое ощущение очень личной взаимосвязи человека и внеземной силы, которая действует как противовес «миру» и его «разуму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К.Г. Юн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2" name="Subtitle 2"/>
          <p:cNvGrpSpPr/>
          <p:nvPr/>
        </p:nvGrpSpPr>
        <p:grpSpPr>
          <a:xfrm>
            <a:off x="255600" y="2133720"/>
            <a:ext cx="8717040" cy="2786040"/>
            <a:chOff x="255600" y="2133720"/>
            <a:chExt cx="8717040" cy="2786040"/>
          </a:xfrm>
        </p:grpSpPr>
        <p:pic>
          <p:nvPicPr>
            <p:cNvPr id="573" name="Subtitle 2" descr=""/>
            <p:cNvPicPr/>
            <p:nvPr/>
          </p:nvPicPr>
          <p:blipFill>
            <a:blip r:embed="rId2"/>
            <a:stretch/>
          </p:blipFill>
          <p:spPr>
            <a:xfrm>
              <a:off x="255600" y="2133720"/>
              <a:ext cx="8713800" cy="27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255600" y="2133720"/>
              <a:ext cx="8717040" cy="27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i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Любое общее образование, лишенное ориентации на предельные смысловые проблемы, на высшие ценности и смысл бытия — ущербн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А.А.Пински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spcBef>
                  <a:spcPts val="201"/>
                </a:spcBef>
                <a:spcAft>
                  <a:spcPts val="499"/>
                </a:spcAft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" name="Subtitle 2"/>
          <p:cNvGrpSpPr/>
          <p:nvPr/>
        </p:nvGrpSpPr>
        <p:grpSpPr>
          <a:xfrm>
            <a:off x="628560" y="2712960"/>
            <a:ext cx="8058240" cy="2054160"/>
            <a:chOff x="628560" y="2712960"/>
            <a:chExt cx="8058240" cy="2054160"/>
          </a:xfrm>
        </p:grpSpPr>
        <p:pic>
          <p:nvPicPr>
            <p:cNvPr id="579" name="Subtitle 2" descr=""/>
            <p:cNvPicPr/>
            <p:nvPr/>
          </p:nvPicPr>
          <p:blipFill>
            <a:blip r:embed="rId2"/>
            <a:stretch/>
          </p:blipFill>
          <p:spPr>
            <a:xfrm>
              <a:off x="631440" y="2712960"/>
              <a:ext cx="8055000" cy="205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628560" y="2714760"/>
              <a:ext cx="8058240" cy="20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349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ru-RU" sz="5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ТАК КТО ЖЕ МЫ ТАКИЕ, МЕНЕДЖЕРЫ ??? 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1" name="Subtitle 2"/>
          <p:cNvSpPr/>
          <p:nvPr/>
        </p:nvSpPr>
        <p:spPr>
          <a:xfrm>
            <a:off x="255600" y="6415200"/>
            <a:ext cx="414324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Высшая школа экономики, Москва, 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201</a:t>
            </a:r>
            <a:r>
              <a:rPr b="0" lang="ru-RU" sz="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itle 1"/>
          <p:cNvSpPr/>
          <p:nvPr/>
        </p:nvSpPr>
        <p:spPr>
          <a:xfrm>
            <a:off x="1428840" y="125280"/>
            <a:ext cx="75470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11"/>
          <p:cNvSpPr/>
          <p:nvPr/>
        </p:nvSpPr>
        <p:spPr>
          <a:xfrm>
            <a:off x="7272000" y="5591160"/>
            <a:ext cx="73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Myriad Pro"/>
              </a:rPr>
              <a:t>ф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30T06:45:29Z</dcterms:created>
  <dc:creator>vkremlev</dc:creator>
  <dc:description/>
  <dc:language>en-US</dc:language>
  <cp:lastModifiedBy>marshev vadim ivanovich</cp:lastModifiedBy>
  <cp:lastPrinted>2016-10-31T15:52:17Z</cp:lastPrinted>
  <dcterms:modified xsi:type="dcterms:W3CDTF">2018-09-21T06:44:53Z</dcterms:modified>
  <cp:revision>455</cp:revision>
  <dc:subject/>
  <dc:title>Slide 1</dc:title>
</cp:coreProperties>
</file>